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0837D-2451-48F1-93F2-084D71409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D9C42-4230-4C67-B76C-AE0741D6A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3A380-66D8-45C0-A95A-ABDE875A8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B9254-A433-4418-9BAA-02E9603DC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394BB-0832-4003-ADBF-9A97D5ECC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FAA32-0808-42AE-8302-5B63FDE59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D4B28-767E-4C72-8A31-5BD9AF0BC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88487-275C-4BB3-BB84-22EFEA291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3B227-EB07-49BE-B499-70DE154B3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5817E-C155-4CF2-BA5E-2D0ED3EAF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CE3D5-7189-4DE7-AED2-0F74ABED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12C16-320E-4FCC-80AE-5BDD1F5F8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74C77-92F0-49A0-BB4A-9FB9517B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87E3A-C5E7-420B-A811-EB6B04F5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21AE5-2F13-4B5E-9F13-028866E96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47C65-CB99-400F-BC9E-BE0A8D0EF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77CD2-7A8C-4D07-907C-6CACB395C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07A4E-A720-47C0-A1EF-9886CE93D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9A213-8431-48C3-BA5F-013A472AC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32115-A71F-4670-8E7A-EF9F6E626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3C635-DE42-4C0E-A973-E4A3EAA76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7CF33-9C3C-49B6-AD98-CCB1B570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9BBF4-5E72-427B-B3D6-F0DAB18B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7F780-C92E-4399-A29C-6435CA80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DF77F-A5C8-45FE-BECB-7F46B5F097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93E0B-FA85-4A8B-8F72-9131FA30D8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39640" y="1828800"/>
            <a:ext cx="6651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ff"/>
                </a:solidFill>
                <a:latin typeface="Arial"/>
              </a:rPr>
              <a:t>ОСНОВНИ ПОЈМОВИ И ДЕФИНИЦИЈ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79280" y="189000"/>
            <a:ext cx="8964720" cy="64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ЕПИДЕМИОЛОГ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ЕДИЦИНСКИ ФАКУЛТЕТ КРАГУЈЕВА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 Cirilica"/>
              </a:rPr>
              <a:t>МЕТОДЕ</a:t>
            </a:r>
            <a:r>
              <a:rPr b="1" lang="sr-CS" sz="3200" spc="-1" strike="noStrike">
                <a:solidFill>
                  <a:srgbClr val="000000"/>
                </a:solidFill>
                <a:latin typeface="Arial Cirilica"/>
              </a:rPr>
              <a:t> СТРАТЕГИЈА ЕПИДЕМИОЛОГИЈЕ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РАДИ ОСТВАРИВАЊА ЦИЉЕВА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5280" y="2565000"/>
            <a:ext cx="7559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 Cirilica"/>
              </a:rPr>
              <a:t>Дескриптивна</a:t>
            </a:r>
            <a:r>
              <a:rPr b="0" lang="sr-Latn-CS" sz="36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 Cirilica"/>
              </a:rPr>
              <a:t>Аналитичка</a:t>
            </a:r>
            <a:r>
              <a:rPr b="0" lang="en-US" sz="36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 Cirilica"/>
              </a:rPr>
              <a:t>Експериментал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300" spc="-1" strike="noStrike">
                <a:solidFill>
                  <a:srgbClr val="000000"/>
                </a:solidFill>
                <a:latin typeface="Arial Cirilica"/>
              </a:rPr>
              <a:t>  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000000"/>
                </a:solidFill>
                <a:uFillTx/>
                <a:latin typeface="Arial Cirilica"/>
              </a:rPr>
              <a:t>МЕТОДЕ</a:t>
            </a:r>
            <a:r>
              <a:rPr b="1" lang="sr-CS" sz="2800" spc="-1" strike="noStrike">
                <a:solidFill>
                  <a:srgbClr val="000000"/>
                </a:solidFill>
                <a:latin typeface="Arial Cirilica"/>
              </a:rPr>
              <a:t> СТРАТЕГИЈА ЕПИДЕМИОЛОГИЈЕ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РАДИ ОСТВАРИВАЊА ЦИЉЕВА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? 1/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989000"/>
            <a:ext cx="8785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 Cirilica"/>
              </a:rPr>
              <a:t>Дескриптивна</a:t>
            </a:r>
            <a:r>
              <a:rPr b="0" lang="sr-Latn-CS" sz="33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300" spc="-1" strike="noStrike">
                <a:solidFill>
                  <a:srgbClr val="000000"/>
                </a:solidFill>
                <a:latin typeface="Arial Cirilica"/>
              </a:rPr>
              <a:t>   </a:t>
            </a:r>
            <a:r>
              <a:rPr b="0" lang="sr-CS" sz="3300" spc="-1" strike="noStrike">
                <a:solidFill>
                  <a:srgbClr val="000000"/>
                </a:solidFill>
                <a:latin typeface="Arial Cirilica"/>
              </a:rPr>
              <a:t>Оруђе за прикупљање</a:t>
            </a:r>
            <a:r>
              <a:rPr b="0" lang="en-US" sz="3300" spc="-1" strike="noStrike">
                <a:solidFill>
                  <a:srgbClr val="000000"/>
                </a:solidFill>
                <a:latin typeface="Arial Cirilica"/>
              </a:rPr>
              <a:t>,</a:t>
            </a:r>
            <a:r>
              <a:rPr b="0" lang="sr-Latn-CS" sz="33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300" spc="-1" strike="noStrike">
                <a:solidFill>
                  <a:srgbClr val="000000"/>
                </a:solidFill>
                <a:latin typeface="Arial Cirilica"/>
              </a:rPr>
              <a:t>сагледавање и </a:t>
            </a:r>
            <a:r>
              <a:rPr b="0" lang="en-US" sz="33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300" spc="-1" strike="noStrike">
                <a:solidFill>
                  <a:srgbClr val="000000"/>
                </a:solidFill>
                <a:latin typeface="Arial Cirilica"/>
              </a:rPr>
              <a:t>интерпретацију епидемиолошких података</a:t>
            </a:r>
            <a:r>
              <a:rPr b="0" lang="sr-Latn-CS" sz="33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300" spc="-1" strike="noStrike">
                <a:solidFill>
                  <a:srgbClr val="000000"/>
                </a:solidFill>
                <a:latin typeface="Arial Cirilica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з педантне дескрипције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писа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)</a:t>
            </a:r>
            <a:r>
              <a:rPr b="0" lang="sr-Latn-C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оистиче хипотеза (Х)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 могућем узроку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запажене</a:t>
            </a:r>
            <a:r>
              <a:rPr b="0" lang="sr-Latn-C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истрибуције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 фреквен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000000"/>
                </a:solidFill>
                <a:uFillTx/>
                <a:latin typeface="Arial Cirilica"/>
              </a:rPr>
              <a:t>МЕТОДЕ СТРАТЕГИЈА</a:t>
            </a:r>
            <a:r>
              <a:rPr b="1" lang="sr-CS" sz="2800" spc="-1" strike="noStrike">
                <a:solidFill>
                  <a:srgbClr val="000000"/>
                </a:solidFill>
                <a:latin typeface="Arial Cirilica"/>
              </a:rPr>
              <a:t> ЕПИДЕМИОЛОГИЈЕ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РАДИ ОСТВАРИВАЊА ЦИЉЕВА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2/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АНАЛИТИЧ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300" spc="-1" strike="noStrike">
                <a:solidFill>
                  <a:srgbClr val="000000"/>
                </a:solidFill>
                <a:latin typeface="Arial Cirilica"/>
              </a:rPr>
              <a:t>   </a:t>
            </a:r>
            <a:r>
              <a:rPr b="0" lang="sr-CS" sz="3300" spc="-1" strike="noStrike">
                <a:solidFill>
                  <a:srgbClr val="000000"/>
                </a:solidFill>
                <a:latin typeface="Arial Cirilica"/>
              </a:rPr>
              <a:t>Везана за епидемиолошка истраживања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естира постављену хипотезу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 утицају</a:t>
            </a:r>
            <a:r>
              <a:rPr b="0" lang="sr-Latn-C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етпостављеног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зрока на појаву болести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–</a:t>
            </a:r>
            <a:r>
              <a:rPr b="0" lang="sr-Latn-C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очава разлику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змеђу две групе испитаника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- D(E)</a:t>
            </a:r>
            <a:r>
              <a:rPr b="0" lang="sr-Latn-C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i D* (</a:t>
            </a:r>
            <a:r>
              <a:rPr b="0" lang="sr-CS" sz="3200" spc="-1" strike="noStrike">
                <a:solidFill>
                  <a:srgbClr val="000000"/>
                </a:solidFill>
                <a:latin typeface="Arial Cirilica"/>
              </a:rPr>
              <a:t>Е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*)</a:t>
            </a:r>
            <a:r>
              <a:rPr b="0" lang="sr-Latn-C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 Cirilica"/>
                <a:ea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псервационе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тудије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сматрање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000000"/>
                </a:solidFill>
                <a:uFillTx/>
                <a:latin typeface="Arial Cirilica"/>
              </a:rPr>
              <a:t>МЕТОДЕ</a:t>
            </a:r>
            <a:r>
              <a:rPr b="1" lang="sr-CS" sz="2800" spc="-1" strike="noStrike">
                <a:solidFill>
                  <a:srgbClr val="000000"/>
                </a:solidFill>
                <a:latin typeface="Arial Cirilica"/>
              </a:rPr>
              <a:t> СТРАТЕГИЈА ЕПИДЕМИОЛОГИЈЕ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РАДИ ОСТВАРИВАЊА ЦИЉЕВА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? 3/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2276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ЕКСПЕРИМЕНТАЛ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300" spc="-1" strike="noStrike">
                <a:solidFill>
                  <a:srgbClr val="000000"/>
                </a:solidFill>
                <a:latin typeface="Arial Cirilica"/>
              </a:rPr>
              <a:t>   </a:t>
            </a:r>
            <a:r>
              <a:rPr b="0" lang="sr-CS" sz="3300" spc="-1" strike="noStrike">
                <a:solidFill>
                  <a:srgbClr val="000000"/>
                </a:solidFill>
                <a:latin typeface="Arial Cirilica"/>
              </a:rPr>
              <a:t>Везана за епидемиолошка истраживања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естира постављену хипотезу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експерименталним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утем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спитивање ефеката</a:t>
            </a:r>
            <a:r>
              <a:rPr b="0" lang="sr-Latn-C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дређене мере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-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акцинација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флуоризација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јодирање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 здравље људ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Приступ јединствен</a:t>
            </a:r>
            <a:r>
              <a:rPr b="1" lang="en-US" sz="4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за све</a:t>
            </a:r>
            <a:r>
              <a:rPr b="1" lang="en-US" sz="4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поремећаје здрављ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2491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ЗАРАЗНЕ боле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НЕЗАРАЗНЕ боле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Тестирање хипотезе о</a:t>
            </a:r>
            <a:r>
              <a:rPr b="1" lang="en-US" sz="4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повезаности</a:t>
            </a:r>
            <a:r>
              <a:rPr b="1" lang="en-US" sz="4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4000" spc="-1" strike="noStrike" u="sng">
                <a:solidFill>
                  <a:srgbClr val="000000"/>
                </a:solidFill>
                <a:uFillTx/>
                <a:latin typeface="Arial"/>
              </a:rPr>
              <a:t>узрока</a:t>
            </a:r>
            <a:r>
              <a:rPr b="1" lang="en-US" sz="4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sr-CS" sz="4000" spc="-1" strike="noStrike" u="sng">
                <a:solidFill>
                  <a:srgbClr val="000000"/>
                </a:solidFill>
                <a:uFillTx/>
                <a:latin typeface="Arial"/>
              </a:rPr>
              <a:t>оболевањ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424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Експерим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ђе се користи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да су у питању</a:t>
            </a:r>
            <a:r>
              <a:rPr b="0" lang="sr-Latn-C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заразне болести</a:t>
            </a:r>
            <a:r>
              <a:rPr b="0" lang="sr-Latn-C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есто није применљ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јпоузданији 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копчан са низом ус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 Cirilica"/>
              </a:rPr>
              <a:t>b)</a:t>
            </a:r>
            <a:r>
              <a:rPr b="0" lang="sr-Latn-CS" sz="1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Аналитичке студ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пецифичност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вог приступа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 етиолошким</a:t>
            </a:r>
            <a:r>
              <a:rPr b="0" lang="sr-Latn-C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спитивањима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 базирана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 опсервацији</a:t>
            </a:r>
            <a:r>
              <a:rPr b="0" lang="sr-Latn-C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псервацијом процењујемо допринос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актора</a:t>
            </a:r>
            <a:r>
              <a:rPr b="0" lang="sr-Latn-C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 настанак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бољења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Типови студ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 Cirilica"/>
              </a:rPr>
              <a:t>Студије засноване на посматрању (опсервационе)</a:t>
            </a:r>
            <a:r>
              <a:rPr b="0" lang="sr-CS" sz="3200" spc="-1" strike="noStrike">
                <a:solidFill>
                  <a:srgbClr val="000000"/>
                </a:solidFill>
                <a:latin typeface="Arial Cirilica"/>
              </a:rPr>
              <a:t> обухватају примену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 Cirilica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 Cirilica"/>
              </a:rPr>
              <a:t>- дескриптивне мет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 Cirilica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 Cirilica"/>
              </a:rPr>
              <a:t>- аналитичке метод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 Cirilica"/>
              </a:rPr>
              <a:t>ЕКСПЕРИМЕНТАЛНЕ (ИНТЕРВЕНТНЕ)</a:t>
            </a:r>
            <a:r>
              <a:rPr b="1" lang="sr-Latn-C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 Cirilica"/>
              </a:rPr>
              <a:t>СТУД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 Cirilic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675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 Cirilica"/>
              </a:rPr>
              <a:t>ДЕСКРИПТИВНЕ СТУДИЈЕ ОПИСУЈ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072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 u="sng">
                <a:solidFill>
                  <a:srgbClr val="000000"/>
                </a:solidFill>
                <a:uFillTx/>
                <a:latin typeface="Arial"/>
              </a:rPr>
              <a:t>Учесталост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sr-CS" sz="3600" spc="-1" strike="noStrike" u="sng">
                <a:solidFill>
                  <a:srgbClr val="000000"/>
                </a:solidFill>
                <a:uFillTx/>
                <a:latin typeface="Arial"/>
              </a:rPr>
              <a:t>дистрибуцију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 поремећаја здравља</a:t>
            </a:r>
            <a:r>
              <a:rPr b="0" lang="en-US" sz="36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у односу на</a:t>
            </a:r>
            <a:r>
              <a:rPr b="0" lang="en-US" sz="36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карактеристике </a:t>
            </a:r>
            <a:r>
              <a:rPr b="0" lang="sr-CS" sz="3600" spc="-1" strike="noStrike" u="sng">
                <a:solidFill>
                  <a:srgbClr val="000000"/>
                </a:solidFill>
                <a:uFillTx/>
                <a:latin typeface="Arial"/>
              </a:rPr>
              <a:t>особа</a:t>
            </a:r>
            <a:r>
              <a:rPr b="0" lang="sr-Latn-CS" sz="36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0" lang="sr-CS" sz="3600" spc="-1" strike="noStrike" u="sng">
                <a:solidFill>
                  <a:srgbClr val="000000"/>
                </a:solidFill>
                <a:uFillTx/>
                <a:latin typeface="Arial"/>
              </a:rPr>
              <a:t>време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sr-CS" sz="3600" spc="-1" strike="noStrike" u="sng">
                <a:solidFill>
                  <a:srgbClr val="000000"/>
                </a:solidFill>
                <a:uFillTx/>
                <a:latin typeface="Arial"/>
              </a:rPr>
              <a:t>место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 настанка боле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 Cirilica"/>
              </a:rPr>
              <a:t>ДЕСКРИПТИВНЕ СТУДИЈЕ траже одговор на следећа питањ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 Cirilica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 Cirilica"/>
                <a:ea typeface="Arial"/>
              </a:rPr>
              <a:t>►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1" lang="en-US" sz="2800" spc="-1" strike="noStrike">
                <a:solidFill>
                  <a:srgbClr val="000000"/>
                </a:solidFill>
                <a:latin typeface="Arial Cirilica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болева </a:t>
            </a:r>
            <a:r>
              <a:rPr b="0" lang="sr-Latn-CS" sz="2800" spc="-1" strike="noStrike">
                <a:solidFill>
                  <a:srgbClr val="000000"/>
                </a:solidFill>
                <a:latin typeface="Arial Cirilic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 Cirilica"/>
                <a:ea typeface="Arial"/>
              </a:rPr>
              <a:t>►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КА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 Cirilica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 Cirilica"/>
                <a:ea typeface="Arial"/>
              </a:rPr>
              <a:t>►</a:t>
            </a:r>
            <a:r>
              <a:rPr b="0" lang="sr-Latn-C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ГДЕ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 Cirilica"/>
              </a:rPr>
              <a:t>(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локализација оболелих у простору</a:t>
            </a:r>
            <a:r>
              <a:rPr b="0" lang="sr-Latn-CS" sz="2800" spc="-1" strike="noStrike">
                <a:solidFill>
                  <a:srgbClr val="000000"/>
                </a:solidFill>
                <a:latin typeface="Arial Cirilic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Анализа одговора на питања</a:t>
            </a:r>
            <a:r>
              <a:rPr b="0" lang="sr-C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 Cirilica"/>
              </a:rPr>
              <a:t>KO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АДА, ГДЕ</a:t>
            </a:r>
            <a:r>
              <a:rPr b="0" lang="sr-Latn-C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 одговор на питање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Cirilica"/>
                <a:ea typeface="Arial"/>
              </a:rPr>
              <a:t>↓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 Cirilica"/>
              </a:rPr>
              <a:t>	</a:t>
            </a:r>
            <a:r>
              <a:rPr b="1" lang="sr-CS" sz="2800" spc="-1" strike="noStrike">
                <a:solidFill>
                  <a:srgbClr val="0000ff"/>
                </a:solidFill>
                <a:latin typeface="Arial"/>
              </a:rPr>
              <a:t>ЗАШТО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 дошло до појаве болести</a:t>
            </a:r>
            <a:r>
              <a:rPr b="0" lang="sr-Latn-CS" sz="2800" spc="-1" strike="noStrike">
                <a:solidFill>
                  <a:srgbClr val="000000"/>
                </a:solidFill>
                <a:latin typeface="Arial Cirilic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 Cirilica"/>
              </a:rPr>
              <a:t>ДЕСКРИПТИВНЕ СТУДИЈЕ</a:t>
            </a:r>
            <a:r>
              <a:rPr b="0" lang="sr-Latn-CS" sz="4800" spc="-1" strike="noStrike">
                <a:solidFill>
                  <a:srgbClr val="000000"/>
                </a:solidFill>
                <a:latin typeface="Arial Cirilica"/>
              </a:rPr>
              <a:t> </a:t>
            </a:r>
            <a:br>
              <a:rPr sz="32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6421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 Cirilica"/>
                <a:ea typeface="Arial"/>
              </a:rPr>
              <a:t>■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Етиологија болести позн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Cirilica"/>
                <a:ea typeface="Arial"/>
              </a:rPr>
              <a:t>■</a:t>
            </a:r>
            <a:r>
              <a:rPr b="0" lang="sr-Latn-CS" sz="3200" spc="-1" strike="noStrike">
                <a:solidFill>
                  <a:srgbClr val="000000"/>
                </a:solidFill>
                <a:latin typeface="Arial Cirilica"/>
                <a:ea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Етиологија болести није позната</a:t>
            </a:r>
            <a:r>
              <a:rPr b="1" lang="sr-Latn-C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 Cirilica"/>
              </a:rPr>
              <a:t>ДЕФИНИЦИЈА ЕПИДЕМИОЛОГИЈЕ</a:t>
            </a:r>
            <a:r>
              <a:rPr b="0" lang="sr-Latn-CS" sz="4400" spc="-1" strike="noStrike">
                <a:solidFill>
                  <a:srgbClr val="000000"/>
                </a:solidFill>
                <a:latin typeface="Times Cirilica"/>
              </a:rPr>
              <a:t> </a:t>
            </a:r>
            <a:br>
              <a:rPr sz="28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ПИДЕМИОЛОГИЈА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 наука која се бави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9999ff"/>
                </a:solidFill>
                <a:latin typeface="Arial Cirilica"/>
                <a:ea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 Cirilica"/>
                <a:ea typeface="Arial"/>
              </a:rPr>
              <a:t>►</a:t>
            </a:r>
            <a:r>
              <a:rPr b="0" lang="sr-Latn-CS" sz="2400" spc="-1" strike="noStrike">
                <a:solidFill>
                  <a:srgbClr val="0000ff"/>
                </a:solidFill>
                <a:latin typeface="Arial Cirilica"/>
                <a:ea typeface="Arial"/>
              </a:rPr>
              <a:t> </a:t>
            </a:r>
            <a:r>
              <a:rPr b="1" lang="sr-CS" sz="2400" spc="-1" strike="noStrike">
                <a:solidFill>
                  <a:srgbClr val="0000ff"/>
                </a:solidFill>
                <a:latin typeface="Arial"/>
              </a:rPr>
              <a:t>Испитивањем</a:t>
            </a:r>
            <a:r>
              <a:rPr b="0" lang="sr-Latn-CS" sz="2400" spc="-1" strike="noStrike">
                <a:solidFill>
                  <a:srgbClr val="9999ff"/>
                </a:solidFill>
                <a:latin typeface="Arial Cirilica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честалости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истрибуције и</a:t>
            </a:r>
            <a:r>
              <a:rPr b="0" lang="sr-Latn-C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терминанти стања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ли догађаја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везаних са здрављем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 некој популацији и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 Cirilica"/>
                <a:ea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 Cirilica"/>
                <a:ea typeface="Arial"/>
              </a:rPr>
              <a:t>►</a:t>
            </a:r>
            <a:r>
              <a:rPr b="0" lang="sr-Latn-CS" sz="2400" spc="-1" strike="noStrike">
                <a:solidFill>
                  <a:srgbClr val="000000"/>
                </a:solidFill>
                <a:latin typeface="Arial Cirilica"/>
                <a:ea typeface="Arial"/>
              </a:rPr>
              <a:t> </a:t>
            </a:r>
            <a:r>
              <a:rPr b="1" lang="sr-CS" sz="2400" spc="-1" strike="noStrike">
                <a:solidFill>
                  <a:srgbClr val="0000ff"/>
                </a:solidFill>
                <a:latin typeface="Arial"/>
              </a:rPr>
              <a:t>Применом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зултата тих истраживања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 контроли здравствених проблема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Дефиницијом обухваћени</a:t>
            </a:r>
            <a:r>
              <a:rPr b="0" lang="sr-CS" sz="2400" spc="-1" strike="noStrike">
                <a:solidFill>
                  <a:srgbClr val="000000"/>
                </a:solidFill>
                <a:latin typeface="Arial Cirilica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садржај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пидемиолошких истражив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циљ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пидемиолошких истражив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 Cirilica"/>
              </a:rPr>
              <a:t>АНАЛИТИЧКЕ СТУДИЈЕ 1/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9999ff"/>
                </a:solidFill>
                <a:latin typeface="Arial"/>
              </a:rPr>
              <a:t>Студије случајеви - контроле</a:t>
            </a:r>
            <a:r>
              <a:rPr b="0" lang="en-US" sz="3600" spc="-1" strike="noStrike">
                <a:solidFill>
                  <a:srgbClr val="000000"/>
                </a:solidFill>
                <a:latin typeface="Arial Cirilica"/>
              </a:rPr>
              <a:t> (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case-control</a:t>
            </a:r>
            <a:r>
              <a:rPr b="0" lang="sr-Latn-CS" sz="3600" spc="-1" strike="noStrike">
                <a:solidFill>
                  <a:srgbClr val="000000"/>
                </a:solidFill>
                <a:latin typeface="Arial Cirilica"/>
              </a:rPr>
              <a:t> study</a:t>
            </a:r>
            <a:r>
              <a:rPr b="0" lang="en-US" sz="3600" spc="-1" strike="noStrike">
                <a:solidFill>
                  <a:srgbClr val="000000"/>
                </a:solidFill>
                <a:latin typeface="Arial Cirilica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9999ff"/>
                </a:solidFill>
                <a:latin typeface="Arial"/>
              </a:rPr>
              <a:t>Кохортне студија</a:t>
            </a:r>
            <a:r>
              <a:rPr b="0" lang="en-US" sz="3600" spc="-1" strike="noStrike">
                <a:solidFill>
                  <a:srgbClr val="000000"/>
                </a:solidFill>
                <a:latin typeface="Arial Cirilica"/>
              </a:rPr>
              <a:t> (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cohort</a:t>
            </a:r>
            <a:r>
              <a:rPr b="0" lang="sr-Latn-CS" sz="36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 Cirilica"/>
              </a:rPr>
              <a:t>- </a:t>
            </a:r>
            <a:r>
              <a:rPr b="0" lang="sr-Latn-CS" sz="3600" spc="-1" strike="noStrike">
                <a:solidFill>
                  <a:srgbClr val="000000"/>
                </a:solidFill>
                <a:latin typeface="Arial Cirilica"/>
              </a:rPr>
              <a:t>study</a:t>
            </a:r>
            <a:r>
              <a:rPr b="0" lang="en-US" sz="3600" spc="-1" strike="noStrike">
                <a:solidFill>
                  <a:srgbClr val="000000"/>
                </a:solidFill>
                <a:latin typeface="Arial Cirilic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 Cirilica"/>
              </a:rPr>
              <a:t>АНАЛИТИЧКЕ СТУДИЈЕ 2/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9999ff"/>
                </a:solidFill>
                <a:latin typeface="Arial"/>
              </a:rPr>
              <a:t>Студија случајеви - контроле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(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case-control</a:t>
            </a:r>
            <a:r>
              <a:rPr b="0" lang="sr-Latn-CS" sz="3200" spc="-1" strike="noStrike">
                <a:solidFill>
                  <a:srgbClr val="000000"/>
                </a:solidFill>
                <a:latin typeface="Arial Cirilica"/>
              </a:rPr>
              <a:t> study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),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намнестичка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Од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3200" spc="-1" strike="noStrike">
                <a:solidFill>
                  <a:srgbClr val="0000ff"/>
                </a:solidFill>
                <a:latin typeface="Arial"/>
              </a:rPr>
              <a:t>болести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ка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етпостављеном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узро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Cirilica"/>
                <a:ea typeface="Arial"/>
              </a:rPr>
              <a:t>↓</a:t>
            </a:r>
            <a:r>
              <a:rPr b="1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Оболели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 Cirilica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Cirilica"/>
              </a:rPr>
              <a:t>(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случајеви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Cirilica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и      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контроле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Cirilica"/>
                <a:ea typeface="Arial"/>
              </a:rPr>
              <a:t>↓</a:t>
            </a:r>
            <a:r>
              <a:rPr b="1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 Cirilica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Упоређују се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 односу на учесталост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зложености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експозиције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)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ипотетичном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зрочном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фактору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 периоду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оји је претходио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бољењ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 Cirilica"/>
              </a:rPr>
              <a:t>АНАЛИТИЧКЕ СТУДИЈЕ 3/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9999ff"/>
                </a:solidFill>
                <a:latin typeface="Arial"/>
              </a:rPr>
              <a:t>Кохортне студије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ohort</a:t>
            </a:r>
            <a:r>
              <a:rPr b="0" lang="sr-Latn-C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- </a:t>
            </a:r>
            <a:r>
              <a:rPr b="0" lang="sr-Latn-CS" sz="2400" spc="-1" strike="noStrike">
                <a:solidFill>
                  <a:srgbClr val="000000"/>
                </a:solidFill>
                <a:latin typeface="Arial Cirilica"/>
              </a:rPr>
              <a:t>study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 Cirilica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 Cirilica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тпостављеног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узрока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ка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400" spc="-1" strike="noStrike">
                <a:solidFill>
                  <a:srgbClr val="0000ff"/>
                </a:solidFill>
                <a:latin typeface="Arial"/>
              </a:rPr>
              <a:t>последици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ремећај здрављ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Cirilica"/>
                <a:ea typeface="Arial"/>
              </a:rPr>
              <a:t>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Изложени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ипотетичном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зрочном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актору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неизложени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Cirilic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Cirilica"/>
                <a:ea typeface="Arial"/>
              </a:rPr>
              <a:t>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Упоређују се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 односу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честалост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јаве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ремећаја здравља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ређеном периоду посматр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 Cirilica"/>
              </a:rPr>
              <a:t>СУШТИНА АНАЛИТИЧКЕ СТУДИЈЕ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 Cirilica"/>
              </a:rPr>
              <a:t>Уочавање </a:t>
            </a:r>
            <a:r>
              <a:rPr b="1" lang="sr-CS" sz="3200" spc="-1" strike="noStrike">
                <a:solidFill>
                  <a:srgbClr val="000000"/>
                </a:solidFill>
                <a:latin typeface="Arial Cirilica"/>
              </a:rPr>
              <a:t>РАЗЛИКА</a:t>
            </a:r>
            <a:r>
              <a:rPr b="0" lang="sr-CS" sz="3200" spc="-1" strike="noStrike">
                <a:solidFill>
                  <a:srgbClr val="000000"/>
                </a:solidFill>
                <a:latin typeface="Arial Cirilica"/>
              </a:rPr>
              <a:t> између две групе испита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 Cirilica"/>
              </a:rPr>
              <a:t>    </a:t>
            </a:r>
            <a:r>
              <a:rPr b="0" lang="sr-CS" sz="3200" spc="-1" strike="noStrike">
                <a:solidFill>
                  <a:srgbClr val="000000"/>
                </a:solidFill>
                <a:latin typeface="Arial Cirilica"/>
              </a:rPr>
              <a:t>- групе особа које су или </a:t>
            </a:r>
            <a:r>
              <a:rPr b="0" lang="sr-CS" sz="3200" spc="-1" strike="noStrike">
                <a:solidFill>
                  <a:srgbClr val="ff0000"/>
                </a:solidFill>
                <a:latin typeface="Arial Cirilica"/>
              </a:rPr>
              <a:t>оболели</a:t>
            </a:r>
            <a:r>
              <a:rPr b="0" lang="sr-CS" sz="3200" spc="-1" strike="noStrike">
                <a:solidFill>
                  <a:srgbClr val="000000"/>
                </a:solidFill>
                <a:latin typeface="Arial Cirilica"/>
              </a:rPr>
              <a:t> или </a:t>
            </a:r>
            <a:r>
              <a:rPr b="0" lang="sr-CS" sz="3200" spc="-1" strike="noStrike">
                <a:solidFill>
                  <a:srgbClr val="ff99ff"/>
                </a:solidFill>
                <a:latin typeface="Arial Cirilica"/>
              </a:rPr>
              <a:t>изложени</a:t>
            </a:r>
            <a:r>
              <a:rPr b="0" lang="sr-CS" sz="3200" spc="-1" strike="noStrike">
                <a:solidFill>
                  <a:srgbClr val="000000"/>
                </a:solidFill>
                <a:latin typeface="Arial Cirilica"/>
              </a:rPr>
              <a:t> дејству неког факт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 Cirilica"/>
              </a:rPr>
              <a:t>    </a:t>
            </a:r>
            <a:r>
              <a:rPr b="0" lang="sr-CS" sz="3200" spc="-1" strike="noStrike">
                <a:solidFill>
                  <a:srgbClr val="000000"/>
                </a:solidFill>
                <a:latin typeface="Arial Cirilica"/>
              </a:rPr>
              <a:t>- одговарајуће 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 Cirilica"/>
              </a:rPr>
              <a:t>контролне</a:t>
            </a:r>
            <a:r>
              <a:rPr b="0" lang="sr-CS" sz="3200" spc="-1" strike="noStrike">
                <a:solidFill>
                  <a:srgbClr val="000000"/>
                </a:solidFill>
                <a:latin typeface="Arial Cirilica"/>
              </a:rPr>
              <a:t> групе (необолели, неизложен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8200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 Cirilica"/>
              </a:rPr>
              <a:t>Тестирање хипотезе</a:t>
            </a:r>
            <a:r>
              <a:rPr b="1" lang="sr-Latn-CS" sz="3200" spc="-1" strike="noStrike">
                <a:solidFill>
                  <a:srgbClr val="000000"/>
                </a:solidFill>
                <a:latin typeface="Arial Cirilica"/>
              </a:rPr>
              <a:t> (</a:t>
            </a:r>
            <a:r>
              <a:rPr b="1" lang="sr-CS" sz="3200" spc="-1" strike="noStrike">
                <a:solidFill>
                  <a:srgbClr val="000000"/>
                </a:solidFill>
                <a:latin typeface="Arial Cirilica"/>
              </a:rPr>
              <a:t>Х</a:t>
            </a:r>
            <a:r>
              <a:rPr b="1" lang="sr-Latn-CS" sz="3200" spc="-1" strike="noStrike">
                <a:solidFill>
                  <a:srgbClr val="000000"/>
                </a:solidFill>
                <a:latin typeface="Arial Cirilica"/>
              </a:rPr>
              <a:t>)?</a:t>
            </a:r>
            <a:br>
              <a:rPr sz="2800"/>
            </a:br>
            <a:r>
              <a:rPr b="1" lang="sr-Latn-C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4000" spc="-1" strike="noStrike" u="sng">
                <a:solidFill>
                  <a:srgbClr val="000000"/>
                </a:solidFill>
                <a:uFillTx/>
                <a:latin typeface="Arial"/>
              </a:rPr>
              <a:t>Х: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Постоји веза између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Cirilica"/>
              </a:rPr>
              <a:t>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пушења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Cirilica"/>
              </a:rPr>
              <a:t>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и коронарне боле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9647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Анамнестичка студија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Cirilica"/>
                <a:ea typeface="Arial"/>
              </a:rPr>
              <a:t>■</a:t>
            </a:r>
            <a:r>
              <a:rPr b="0" lang="sr-Latn-CS" sz="2800" spc="-1" strike="noStrike">
                <a:solidFill>
                  <a:srgbClr val="000000"/>
                </a:solidFill>
                <a:latin typeface="Arial Cirilica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200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соба са коронарном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болешћу</a:t>
            </a:r>
            <a:r>
              <a:rPr b="1" lang="en-US" sz="2800" spc="-1" strike="noStrike">
                <a:solidFill>
                  <a:srgbClr val="000000"/>
                </a:solidFill>
                <a:latin typeface="Arial Cirilica"/>
              </a:rPr>
              <a:t> (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случајеви</a:t>
            </a:r>
            <a:r>
              <a:rPr b="1" lang="en-US" sz="2800" spc="-1" strike="noStrike">
                <a:solidFill>
                  <a:srgbClr val="000000"/>
                </a:solidFill>
                <a:latin typeface="Arial Cirilica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 400 особа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је коронарну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болест</a:t>
            </a:r>
            <a:r>
              <a:rPr b="1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немају</a:t>
            </a:r>
            <a:r>
              <a:rPr b="1" lang="en-US" sz="2800" spc="-1" strike="noStrike">
                <a:solidFill>
                  <a:srgbClr val="000000"/>
                </a:solidFill>
                <a:latin typeface="Arial Cirilica"/>
              </a:rPr>
              <a:t> (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контроле</a:t>
            </a:r>
            <a:r>
              <a:rPr b="1" lang="en-US" sz="2800" spc="-1" strike="noStrike">
                <a:solidFill>
                  <a:srgbClr val="000000"/>
                </a:solidFill>
                <a:latin typeface="Arial Cirilic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Cirilica"/>
                <a:ea typeface="Arial"/>
              </a:rPr>
              <a:t>■</a:t>
            </a:r>
            <a:r>
              <a:rPr b="0" lang="sr-Latn-CS" sz="2800" spc="-1" strike="noStrike">
                <a:solidFill>
                  <a:srgbClr val="000000"/>
                </a:solidFill>
                <a:latin typeface="Arial Cirilica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д свих испитаника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ражити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податке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Cirilica"/>
              </a:rPr>
              <a:t>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о пушачким навикама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Cirilic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 Cirilica"/>
                <a:ea typeface="Arial"/>
              </a:rPr>
              <a:t>■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Групу оболелих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 контролну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упоредит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у односу на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учесталост пушења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Већи % пушача</a:t>
            </a:r>
            <a:r>
              <a:rPr b="1" lang="en-US" sz="2800" spc="-1" strike="noStrike">
                <a:solidFill>
                  <a:srgbClr val="ff0000"/>
                </a:solidFill>
                <a:latin typeface="Arial Cirilica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у групи оболелих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де у прилог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стављеној хипотез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589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 Cirilica"/>
              </a:rPr>
              <a:t>Тестирање хипотезе</a:t>
            </a:r>
            <a:r>
              <a:rPr b="1" lang="sr-Latn-CS" sz="3200" spc="-1" strike="noStrike">
                <a:solidFill>
                  <a:srgbClr val="000000"/>
                </a:solidFill>
                <a:latin typeface="Arial Cirilica"/>
              </a:rPr>
              <a:t> (</a:t>
            </a:r>
            <a:r>
              <a:rPr b="1" lang="sr-CS" sz="3200" spc="-1" strike="noStrike">
                <a:solidFill>
                  <a:srgbClr val="000000"/>
                </a:solidFill>
                <a:latin typeface="Arial Cirilica"/>
              </a:rPr>
              <a:t>Х</a:t>
            </a:r>
            <a:r>
              <a:rPr b="1" lang="sr-Latn-CS" sz="3200" spc="-1" strike="noStrike">
                <a:solidFill>
                  <a:srgbClr val="000000"/>
                </a:solidFill>
                <a:latin typeface="Arial Cirilica"/>
              </a:rPr>
              <a:t>)?</a:t>
            </a:r>
            <a:br>
              <a:rPr sz="2800"/>
            </a:b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sr-Latn-CS" sz="3600" spc="-1" strike="noStrike">
                <a:solidFill>
                  <a:srgbClr val="000000"/>
                </a:solidFill>
                <a:latin typeface="Arial Cirilica"/>
              </a:rPr>
              <a:t>:</a:t>
            </a:r>
            <a:r>
              <a:rPr b="0" lang="sr-Latn-CS" sz="36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Постоји веза између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Cirilica"/>
              </a:rPr>
              <a:t>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пушења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Cirilica"/>
              </a:rPr>
              <a:t>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и коронарне боле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9640" y="2204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Кохортна студ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 Cirilica"/>
                <a:ea typeface="Arial"/>
              </a:rPr>
              <a:t>■</a:t>
            </a:r>
            <a:r>
              <a:rPr b="0" lang="sr-Latn-C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Група пушача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 група непушача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сматране у дужем пери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 Cirilica"/>
                <a:ea typeface="Arial"/>
              </a:rPr>
              <a:t>■</a:t>
            </a:r>
            <a:r>
              <a:rPr b="0" lang="sr-Latn-C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честалост оболевања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д коронарне бол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Већи % оболелих у групи пушача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де у прилог постављеној хипотез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64360" cy="12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 Cirilica"/>
              </a:rPr>
              <a:t>ЕКСПЕРИМЕНТАЛНЕ СТУД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3640" y="2349360"/>
            <a:ext cx="77770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9999ff"/>
                </a:solidFill>
                <a:latin typeface="Arial"/>
              </a:rPr>
              <a:t>Потврда хипотезе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стиране аналитичким студијама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д </a:t>
            </a:r>
            <a:r>
              <a:rPr b="1" lang="sr-CS" sz="2400" spc="-1" strike="noStrike">
                <a:solidFill>
                  <a:srgbClr val="9999ff"/>
                </a:solidFill>
                <a:latin typeface="Arial"/>
              </a:rPr>
              <a:t>контролом истраживача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ји интервенише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ј</a:t>
            </a:r>
            <a:r>
              <a:rPr b="0" lang="sr-Latn-CS" sz="2400" spc="-1" strike="noStrike">
                <a:solidFill>
                  <a:srgbClr val="000000"/>
                </a:solidFill>
                <a:latin typeface="Arial Cirilica"/>
                <a:ea typeface="Arial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ња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дан или више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ак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 Cirilica"/>
              </a:rPr>
              <a:t>ЕКСПЕРИМЕНТАЛНЕ</a:t>
            </a:r>
            <a:r>
              <a:rPr b="1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 Cirilica"/>
              </a:rPr>
              <a:t>СТУД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7d"/>
                </a:solidFill>
                <a:latin typeface="Arial"/>
              </a:rPr>
              <a:t>ЦИЉ</a:t>
            </a:r>
            <a:r>
              <a:rPr b="1" lang="sr-Latn-CS" sz="2000" spc="-1" strike="noStrike">
                <a:solidFill>
                  <a:srgbClr val="00007d"/>
                </a:solidFill>
                <a:latin typeface="Arial Cirilica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спитивање</a:t>
            </a:r>
            <a:r>
              <a:rPr b="0" lang="en-US" sz="2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000" spc="-1" strike="noStrike">
                <a:solidFill>
                  <a:srgbClr val="9999ff"/>
                </a:solidFill>
                <a:latin typeface="Arial"/>
              </a:rPr>
              <a:t>ефеката</a:t>
            </a:r>
            <a:r>
              <a:rPr b="0" lang="en-US" sz="2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мена</a:t>
            </a:r>
            <a:r>
              <a:rPr b="0" lang="en-US" sz="20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9999ff"/>
                </a:solidFill>
                <a:latin typeface="Arial"/>
              </a:rPr>
              <a:t>Директно</a:t>
            </a:r>
            <a:r>
              <a:rPr b="0" lang="en-US" sz="2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спитивање</a:t>
            </a:r>
            <a:r>
              <a:rPr b="0" lang="en-US" sz="2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зрочно-последичне</a:t>
            </a:r>
            <a:r>
              <a:rPr b="0" lang="en-US" sz="2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езе између</a:t>
            </a:r>
            <a:r>
              <a:rPr b="0" lang="en-US" sz="2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ког фактора</a:t>
            </a:r>
            <a:r>
              <a:rPr b="0" lang="en-US" sz="2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 поремећаја</a:t>
            </a:r>
            <a:r>
              <a:rPr b="0" lang="en-US" sz="2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дравља</a:t>
            </a:r>
            <a:r>
              <a:rPr b="0" lang="en-US" sz="2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 Cirilica"/>
              </a:rPr>
              <a:t>–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 етичких</a:t>
            </a:r>
            <a:r>
              <a:rPr b="0" lang="en-US" sz="2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злога није могуће</a:t>
            </a:r>
            <a:r>
              <a:rPr b="0" lang="sr-Latn-CS" sz="2000" spc="-1" strike="noStrike">
                <a:solidFill>
                  <a:srgbClr val="000000"/>
                </a:solidFill>
                <a:latin typeface="Arial Cirilica"/>
              </a:rPr>
              <a:t>?</a:t>
            </a:r>
            <a:r>
              <a:rPr b="0" lang="en-US" sz="20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9999ff"/>
                </a:solidFill>
                <a:latin typeface="Arial"/>
              </a:rPr>
              <a:t>Индиректно</a:t>
            </a:r>
            <a:r>
              <a:rPr b="0" lang="en-US" sz="2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спитивање</a:t>
            </a:r>
            <a:r>
              <a:rPr b="0" lang="en-US" sz="2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зрочно-последичне</a:t>
            </a:r>
            <a:r>
              <a:rPr b="0" lang="en-US" sz="2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езе између</a:t>
            </a:r>
            <a:r>
              <a:rPr b="0" lang="en-US" sz="2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ког фактора</a:t>
            </a:r>
            <a:r>
              <a:rPr b="0" lang="en-US" sz="2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 поремећаја</a:t>
            </a:r>
            <a:r>
              <a:rPr b="0" lang="en-US" sz="2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дравља</a:t>
            </a:r>
            <a:r>
              <a:rPr b="0" lang="en-US" sz="2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 Cirilica"/>
              </a:rPr>
              <a:t>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лиминисање</a:t>
            </a:r>
            <a:r>
              <a:rPr b="0" lang="en-US" sz="2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ипотетичног</a:t>
            </a:r>
            <a:r>
              <a:rPr b="0" lang="en-US" sz="2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зрочног фактора</a:t>
            </a:r>
            <a:r>
              <a:rPr b="0" lang="sr-Latn-CS" sz="2000" spc="-1" strike="noStrike">
                <a:solidFill>
                  <a:srgbClr val="000000"/>
                </a:solidFill>
                <a:latin typeface="Arial Cirilica"/>
              </a:rPr>
              <a:t>)</a:t>
            </a:r>
            <a:r>
              <a:rPr b="0" lang="sr-CS" sz="2000" spc="-1" strike="noStrike">
                <a:solidFill>
                  <a:srgbClr val="000000"/>
                </a:solidFill>
                <a:latin typeface="Arial Cirilica"/>
              </a:rPr>
              <a:t>-могућ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 испитивање ефикасности</a:t>
            </a:r>
            <a:r>
              <a:rPr b="0" lang="en-US" sz="20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ерапијских средстава</a:t>
            </a:r>
            <a:r>
              <a:rPr b="0" lang="en-US" sz="2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ли поступака и</a:t>
            </a:r>
            <a:r>
              <a:rPr b="0" lang="en-US" sz="20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вентивних м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sr-Latn-C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9999ff"/>
                </a:solidFill>
                <a:latin typeface="Arial"/>
              </a:rPr>
              <a:t>Клинички аспект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Одсуство болести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  <a:ea typeface="Arial"/>
              </a:rPr>
              <a:t>=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дравствено стање популације ОДЛИЧ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9999ff"/>
                </a:solidFill>
                <a:latin typeface="Arial"/>
              </a:rPr>
              <a:t>Епидемиолошки аспе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Одсуство болести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исутни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фактор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који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оводе до болести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постоје услови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а угрозе осетљиве особе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  <a:ea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итуација се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цењује НЕПОВОЉН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 Cirilica"/>
              </a:rPr>
              <a:t>Једна од карактеристика која епидемиологију разликује од клиничке медиц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7d"/>
                </a:solidFill>
                <a:latin typeface="Arial Cirilica"/>
              </a:rPr>
              <a:t>ЕПИДЕМИЈА</a:t>
            </a:r>
            <a:r>
              <a:rPr b="1" lang="sr-Latn-CS" sz="3600" spc="-1" strike="noStrike">
                <a:solidFill>
                  <a:srgbClr val="000000"/>
                </a:solidFill>
                <a:latin typeface="Times Cirilica"/>
              </a:rPr>
              <a:t>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Times Cirilica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YU"/>
              </a:rPr>
              <a:t>epi</a:t>
            </a:r>
            <a:r>
              <a:rPr b="0" i="1" lang="en-US" sz="3600" spc="-1" strike="noStrike">
                <a:solidFill>
                  <a:srgbClr val="000000"/>
                </a:solidFill>
                <a:latin typeface="Times Cirilic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Cirilica"/>
              </a:rPr>
              <a:t>= </a:t>
            </a:r>
            <a:r>
              <a:rPr b="0" lang="sr-CS" sz="3600" spc="-1" strike="noStrike">
                <a:solidFill>
                  <a:srgbClr val="000000"/>
                </a:solidFill>
                <a:latin typeface="Arial Cirilica"/>
              </a:rPr>
              <a:t>на</a:t>
            </a:r>
            <a:r>
              <a:rPr b="0" lang="en-US" sz="3600" spc="-1" strike="noStrike">
                <a:solidFill>
                  <a:srgbClr val="000000"/>
                </a:solidFill>
                <a:latin typeface="Times Cirilica"/>
              </a:rPr>
              <a:t>; </a:t>
            </a:r>
            <a:r>
              <a:rPr b="0" i="1" lang="en-US" sz="3600" spc="-1" strike="noStrike">
                <a:solidFill>
                  <a:srgbClr val="000000"/>
                </a:solidFill>
                <a:latin typeface="Times YU"/>
              </a:rPr>
              <a:t>demos</a:t>
            </a:r>
            <a:r>
              <a:rPr b="0" i="1" lang="en-US" sz="3600" spc="-1" strike="noStrike">
                <a:solidFill>
                  <a:srgbClr val="000000"/>
                </a:solidFill>
                <a:latin typeface="Times Cirilica"/>
              </a:rPr>
              <a:t> = </a:t>
            </a:r>
            <a:r>
              <a:rPr b="0" lang="sr-CS" sz="3600" spc="-1" strike="noStrike">
                <a:solidFill>
                  <a:srgbClr val="000000"/>
                </a:solidFill>
                <a:latin typeface="Arial Cirilica"/>
              </a:rPr>
              <a:t>народ</a:t>
            </a:r>
            <a:r>
              <a:rPr b="0" lang="en-US" sz="3600" spc="-1" strike="noStrike">
                <a:solidFill>
                  <a:srgbClr val="000000"/>
                </a:solidFill>
                <a:latin typeface="Times Cirilica"/>
              </a:rPr>
              <a:t>)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sr-CS" sz="3200" spc="-1" strike="noStrike">
                <a:solidFill>
                  <a:srgbClr val="00007d"/>
                </a:solidFill>
                <a:latin typeface="Arial Cirilica"/>
              </a:rPr>
              <a:t>Појава болести</a:t>
            </a:r>
            <a:r>
              <a:rPr b="0" lang="en-US" sz="3200" spc="-1" strike="noStrike">
                <a:solidFill>
                  <a:srgbClr val="00007d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7d"/>
                </a:solidFill>
                <a:latin typeface="Arial Cirilica"/>
              </a:rPr>
              <a:t>или</a:t>
            </a:r>
            <a:r>
              <a:rPr b="0" lang="en-US" sz="3200" spc="-1" strike="noStrike">
                <a:solidFill>
                  <a:srgbClr val="00007d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7d"/>
                </a:solidFill>
                <a:latin typeface="Arial Cirilica"/>
              </a:rPr>
              <a:t>другог догађаја</a:t>
            </a:r>
            <a:r>
              <a:rPr b="0" lang="en-US" sz="3200" spc="-1" strike="noStrike">
                <a:solidFill>
                  <a:srgbClr val="00007d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7d"/>
                </a:solidFill>
                <a:latin typeface="Arial Cirilica"/>
              </a:rPr>
              <a:t>везаног за здравље</a:t>
            </a:r>
            <a:r>
              <a:rPr b="0" lang="en-US" sz="3200" spc="-1" strike="noStrike">
                <a:solidFill>
                  <a:srgbClr val="00007d"/>
                </a:solidFill>
                <a:latin typeface="Arial Cirilica"/>
              </a:rPr>
              <a:t> </a:t>
            </a:r>
            <a:r>
              <a:rPr b="0" lang="sr-Latn-CS" sz="3200" spc="-1" strike="noStrike">
                <a:solidFill>
                  <a:srgbClr val="00007d"/>
                </a:solidFill>
                <a:latin typeface="Arial Cirilica"/>
              </a:rPr>
              <a:t>(</a:t>
            </a:r>
            <a:r>
              <a:rPr b="0" lang="sr-CS" sz="3200" spc="-1" strike="noStrike">
                <a:solidFill>
                  <a:srgbClr val="00007d"/>
                </a:solidFill>
                <a:latin typeface="Arial Cirilica"/>
              </a:rPr>
              <a:t>нпр. пушења</a:t>
            </a:r>
            <a:r>
              <a:rPr b="0" lang="sr-Latn-CS" sz="3200" spc="-1" strike="noStrike">
                <a:solidFill>
                  <a:srgbClr val="00007d"/>
                </a:solidFill>
                <a:latin typeface="Arial Cirilica"/>
              </a:rPr>
              <a:t>) </a:t>
            </a:r>
            <a:r>
              <a:rPr b="0" lang="sr-CS" sz="3200" spc="-1" strike="noStrike">
                <a:solidFill>
                  <a:srgbClr val="00007d"/>
                </a:solidFill>
                <a:latin typeface="Arial Cirilica"/>
              </a:rPr>
              <a:t>у</a:t>
            </a:r>
            <a:r>
              <a:rPr b="0" lang="en-US" sz="3200" spc="-1" strike="noStrike">
                <a:solidFill>
                  <a:srgbClr val="00007d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7d"/>
                </a:solidFill>
                <a:latin typeface="Arial Cirilica"/>
              </a:rPr>
              <a:t>броју који </a:t>
            </a:r>
            <a:r>
              <a:rPr b="1" lang="sr-CS" sz="3600" spc="-1" strike="noStrike" u="sng">
                <a:solidFill>
                  <a:srgbClr val="00007d"/>
                </a:solidFill>
                <a:uFillTx/>
                <a:latin typeface="Arial Cirilica"/>
              </a:rPr>
              <a:t>превазилази</a:t>
            </a:r>
            <a:r>
              <a:rPr b="1" lang="en-US" sz="3600" spc="-1" strike="noStrike" u="sng">
                <a:solidFill>
                  <a:srgbClr val="00007d"/>
                </a:solidFill>
                <a:uFillTx/>
                <a:latin typeface="Arial Cirilica"/>
              </a:rPr>
              <a:t> </a:t>
            </a:r>
            <a:r>
              <a:rPr b="1" lang="sr-CS" sz="3600" spc="-1" strike="noStrike" u="sng">
                <a:solidFill>
                  <a:srgbClr val="00007d"/>
                </a:solidFill>
                <a:uFillTx/>
                <a:latin typeface="Arial Cirilica"/>
              </a:rPr>
              <a:t>њихову</a:t>
            </a:r>
            <a:r>
              <a:rPr b="1" lang="en-US" sz="3600" spc="-1" strike="noStrike" u="sng">
                <a:solidFill>
                  <a:srgbClr val="00007d"/>
                </a:solidFill>
                <a:uFillTx/>
                <a:latin typeface="Arial Cirilica"/>
              </a:rPr>
              <a:t> </a:t>
            </a:r>
            <a:r>
              <a:rPr b="1" lang="sr-CS" sz="3600" spc="-1" strike="noStrike" u="sng">
                <a:solidFill>
                  <a:srgbClr val="00007d"/>
                </a:solidFill>
                <a:uFillTx/>
                <a:latin typeface="Arial Cirilica"/>
              </a:rPr>
              <a:t>уобичајену учесталост</a:t>
            </a:r>
            <a:r>
              <a:rPr b="0" lang="en-US" sz="3200" spc="-1" strike="noStrike">
                <a:solidFill>
                  <a:srgbClr val="00007d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7d"/>
                </a:solidFill>
                <a:latin typeface="Arial Cirilica"/>
              </a:rPr>
              <a:t>у одређеној</a:t>
            </a:r>
            <a:r>
              <a:rPr b="0" lang="en-US" sz="3200" spc="-1" strike="noStrike">
                <a:solidFill>
                  <a:srgbClr val="00007d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7d"/>
                </a:solidFill>
                <a:latin typeface="Arial Cirilica"/>
              </a:rPr>
              <a:t>популацији (важећа дефинициј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817236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 Cirilica"/>
              </a:rPr>
              <a:t>ДЕФИНИЦИЈА И ЗАДАЦИ ЕПИДЕМИОЛОГИЈЕ </a:t>
            </a:r>
            <a:r>
              <a:rPr b="1" lang="sr-Latn-CS" sz="3200" spc="-1" strike="noStrike">
                <a:solidFill>
                  <a:srgbClr val="000000"/>
                </a:solidFill>
                <a:latin typeface="Arial Cirilic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 Cirilica"/>
              </a:rPr>
              <a:t>960</a:t>
            </a:r>
            <a:r>
              <a:rPr b="0" lang="sr-CS" sz="4000" spc="-1" strike="noStrike">
                <a:solidFill>
                  <a:srgbClr val="000000"/>
                </a:solidFill>
                <a:latin typeface="Arial Cirilica"/>
              </a:rPr>
              <a:t>.–</a:t>
            </a:r>
            <a:r>
              <a:rPr b="0" lang="sr-CS" sz="3600" spc="-1" strike="noStrike">
                <a:solidFill>
                  <a:srgbClr val="000000"/>
                </a:solidFill>
                <a:latin typeface="Arial Cirilica"/>
              </a:rPr>
              <a:t>Међународни симпозијум у Праг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2133360"/>
            <a:ext cx="8785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 Cirilica"/>
              </a:rPr>
              <a:t>Епидемиологија је самостална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 Cirilica"/>
              </a:rPr>
              <a:t>грана медицинске науке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 Cirilica"/>
              </a:rPr>
              <a:t>која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 Cirilica"/>
              </a:rPr>
              <a:t>се бави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 Cirilica"/>
              </a:rPr>
              <a:t>изучавањем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 Cirilica"/>
              </a:rPr>
              <a:t>узрока појаве и ширења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 Cirilica"/>
              </a:rPr>
              <a:t> 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 Cirilica"/>
              </a:rPr>
              <a:t>заразних</a:t>
            </a:r>
            <a:r>
              <a:rPr b="0" lang="sr-CS" sz="3200" spc="-1" strike="noStrike">
                <a:solidFill>
                  <a:srgbClr val="000000"/>
                </a:solidFill>
                <a:latin typeface="Arial Cirilica"/>
              </a:rPr>
              <a:t> болести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 Cirilica"/>
              </a:rPr>
              <a:t>у људском друштву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 Cirilica"/>
              </a:rPr>
              <a:t>примењујући стечена знања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 Cirilica"/>
              </a:rPr>
              <a:t>за превенцију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Arial Cirilica"/>
              </a:rPr>
              <a:t>сузбијање и контролу и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 Cirilica"/>
              </a:rPr>
              <a:t>ликвидацију ових болести.</a:t>
            </a:r>
            <a:r>
              <a:rPr b="0" lang="sr-Latn-C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 Cirilic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836640"/>
            <a:ext cx="8280360" cy="53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Cirilica"/>
              </a:rPr>
              <a:t>Карактеристике епидемиј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Ciril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 Cirilica"/>
              </a:rPr>
              <a:t>Б</a:t>
            </a:r>
            <a:r>
              <a:rPr b="1" lang="ru-RU" sz="2800" spc="-1" strike="noStrike">
                <a:solidFill>
                  <a:srgbClr val="000000"/>
                </a:solidFill>
                <a:latin typeface="Arial Cirilica"/>
              </a:rPr>
              <a:t>олест</a:t>
            </a:r>
            <a:r>
              <a:rPr b="0" lang="ru-RU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 Cirilica"/>
              </a:rPr>
              <a:t>НЕ</a:t>
            </a:r>
            <a:r>
              <a:rPr b="0" lang="ru-RU" sz="2800" spc="-1" strike="noStrike">
                <a:solidFill>
                  <a:srgbClr val="000000"/>
                </a:solidFill>
                <a:latin typeface="Arial Cirilica"/>
              </a:rPr>
              <a:t> мора бити заразна (трауматиза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Ciril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Cirilica"/>
              </a:rPr>
              <a:t>2. </a:t>
            </a:r>
            <a:r>
              <a:rPr b="1" lang="en-US" sz="2800" spc="-1" strike="noStrike">
                <a:solidFill>
                  <a:srgbClr val="000000"/>
                </a:solidFill>
                <a:latin typeface="Arial Cirilica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Arial Cirilica"/>
              </a:rPr>
              <a:t>псолутни број</a:t>
            </a:r>
            <a:r>
              <a:rPr b="0" lang="ru-RU" sz="2800" spc="-1" strike="noStrike">
                <a:solidFill>
                  <a:srgbClr val="000000"/>
                </a:solidFill>
                <a:latin typeface="Arial Cirilica"/>
              </a:rPr>
              <a:t> оболелих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 Cirilica"/>
              </a:rPr>
              <a:t>НЕ</a:t>
            </a:r>
            <a:r>
              <a:rPr b="0" lang="ru-RU" sz="2800" spc="-1" strike="noStrike">
                <a:solidFill>
                  <a:srgbClr val="000000"/>
                </a:solidFill>
                <a:latin typeface="Arial Cirilica"/>
              </a:rPr>
              <a:t> мора бити велики (он је </a:t>
            </a:r>
            <a:r>
              <a:rPr b="1" lang="ru-RU" sz="2800" spc="-1" strike="noStrike">
                <a:solidFill>
                  <a:srgbClr val="000000"/>
                </a:solidFill>
                <a:latin typeface="Arial Cirilica"/>
              </a:rPr>
              <a:t>неуобичајен</a:t>
            </a:r>
            <a:r>
              <a:rPr b="0" lang="ru-RU" sz="2800" spc="-1" strike="noStrike">
                <a:solidFill>
                  <a:srgbClr val="000000"/>
                </a:solidFill>
                <a:latin typeface="Arial Cirilica"/>
              </a:rPr>
              <a:t> у односу на популацију и временски период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Cirilica"/>
              </a:rPr>
              <a:t>3. </a:t>
            </a:r>
            <a:r>
              <a:rPr b="1" lang="sr-CS" sz="2800" spc="-1" strike="noStrike">
                <a:solidFill>
                  <a:srgbClr val="000000"/>
                </a:solidFill>
                <a:latin typeface="Arial Cirilica"/>
              </a:rPr>
              <a:t>П</a:t>
            </a:r>
            <a:r>
              <a:rPr b="1" lang="ru-RU" sz="2800" spc="-1" strike="noStrike">
                <a:solidFill>
                  <a:srgbClr val="000000"/>
                </a:solidFill>
                <a:latin typeface="Arial Cirilica"/>
              </a:rPr>
              <a:t>ораст</a:t>
            </a:r>
            <a:r>
              <a:rPr b="0" lang="ru-RU" sz="2800" spc="-1" strike="noStrike">
                <a:solidFill>
                  <a:srgbClr val="000000"/>
                </a:solidFill>
                <a:latin typeface="Arial Cirilica"/>
              </a:rPr>
              <a:t> броја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 Cirilica"/>
              </a:rPr>
              <a:t>НЕ</a:t>
            </a:r>
            <a:r>
              <a:rPr b="0" lang="ru-RU" sz="2800" spc="-1" strike="noStrike">
                <a:solidFill>
                  <a:srgbClr val="000000"/>
                </a:solidFill>
                <a:latin typeface="Arial Cirilica"/>
              </a:rPr>
              <a:t> мора настати нагло, у кратком интервалу (епидемија рака плућа траје 50 година и није достигла врхунац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 Cirilica"/>
              </a:rPr>
              <a:t>ПАНДЕМИЈ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pa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sr-CS" sz="3200" spc="-1" strike="noStrike">
                <a:solidFill>
                  <a:srgbClr val="000000"/>
                </a:solidFill>
                <a:latin typeface="Arial Cirilica"/>
              </a:rPr>
              <a:t>са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Ширење епидемије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 огромна пространства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 угрожавање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пулације више континената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Екстензивност јављања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грип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–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андемиј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 Cirilica"/>
              </a:rPr>
              <a:t>S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л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 Cirilica"/>
              </a:rPr>
              <a:t>Настанак епидемије </a:t>
            </a:r>
            <a:r>
              <a:rPr b="1" lang="sr-CS" sz="2800" spc="-1" strike="noStrike">
                <a:solidFill>
                  <a:srgbClr val="000000"/>
                </a:solidFill>
                <a:latin typeface="Arial Cirilica"/>
              </a:rPr>
              <a:t>(интерепидемијски период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змењени услови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 постојећем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аришту 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  <a:ea typeface="Arial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раст броја оболев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 објашњење законитости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је доводе до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пидемије неопходно је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сматрати учесталост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олести у  времену и простору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 међуепидемијском пери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7956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 Cirilica"/>
              </a:rPr>
              <a:t>Настанак епидемије (интерепидемијски период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ри степена учесталости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болести који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етходе епидемиј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Ендем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порадич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дсуство болести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 хуманој популациј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7d"/>
                </a:solidFill>
                <a:latin typeface="Arial Cirilica"/>
              </a:rPr>
              <a:t>ЕНДЕМИЈА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 Cirilica"/>
              </a:rPr>
              <a:t>Стално присуство обољења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 Cirilica"/>
              </a:rPr>
              <a:t>међу становницима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 Cirilica"/>
              </a:rPr>
              <a:t>одређеног подручја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Arial Cirilica"/>
              </a:rPr>
              <a:t>ограничена просторно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 Cirilica"/>
              </a:rPr>
              <a:t>али не и временски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 Cirilic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 Cirilic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 Cirilica"/>
              </a:rPr>
              <a:t>    </a:t>
            </a:r>
            <a:r>
              <a:rPr b="1" lang="sr-CS" sz="2400" spc="-1" strike="noStrike">
                <a:solidFill>
                  <a:srgbClr val="000000"/>
                </a:solidFill>
                <a:latin typeface="Arial Cirilica"/>
              </a:rPr>
              <a:t>Ендемска болест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= </a:t>
            </a:r>
            <a:r>
              <a:rPr b="0" lang="sr-CS" sz="2400" spc="-1" strike="noStrike">
                <a:solidFill>
                  <a:srgbClr val="000000"/>
                </a:solidFill>
                <a:latin typeface="Arial Cirilica"/>
              </a:rPr>
              <a:t>све које су аутохтоне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Arial Cirilica"/>
              </a:rPr>
              <a:t>одомаћене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 Cirilica"/>
              </a:rPr>
              <a:t>међу становницима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 Cirilica"/>
              </a:rPr>
              <a:t>одређеног подручја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7d"/>
                </a:solidFill>
                <a:latin typeface="Arial Cirilica"/>
              </a:rPr>
              <a:t>СПОРАДИЧНОСТ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 Cirilica"/>
              </a:rPr>
              <a:t>Појава појединачних случајева</a:t>
            </a:r>
            <a:r>
              <a:rPr b="0" lang="sr-Latn-C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 Cirilica"/>
              </a:rPr>
              <a:t>болести која није аутохт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 Cirilica"/>
              </a:rPr>
              <a:t>На територију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 Cirilica"/>
              </a:rPr>
              <a:t>унета са неког подруч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 Cirilica"/>
              </a:rPr>
              <a:t>Екдемско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Arial Cirilica"/>
              </a:rPr>
              <a:t>егзотично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= </a:t>
            </a:r>
            <a:r>
              <a:rPr b="0" lang="sr-CS" sz="2400" spc="-1" strike="noStrike">
                <a:solidFill>
                  <a:srgbClr val="000000"/>
                </a:solidFill>
                <a:latin typeface="Arial Cirilica"/>
              </a:rPr>
              <a:t>може било када да се импортује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*</a:t>
            </a:r>
            <a:r>
              <a:rPr b="0" lang="sr-CS" sz="2400" spc="-1" strike="noStrike">
                <a:solidFill>
                  <a:srgbClr val="000000"/>
                </a:solidFill>
                <a:latin typeface="Arial Cirilica"/>
              </a:rPr>
              <a:t>)Епидемија вариоле на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 Cirilica"/>
              </a:rPr>
              <a:t>Косову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1972. </a:t>
            </a:r>
            <a:r>
              <a:rPr b="0" lang="sr-CS" sz="2400" spc="-1" strike="noStrike">
                <a:solidFill>
                  <a:srgbClr val="000000"/>
                </a:solidFill>
                <a:latin typeface="Arial Cirilica"/>
              </a:rPr>
              <a:t>године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(175 </a:t>
            </a:r>
            <a:r>
              <a:rPr b="0" lang="sr-CS" sz="2400" spc="-1" strike="noStrike">
                <a:solidFill>
                  <a:srgbClr val="000000"/>
                </a:solidFill>
                <a:latin typeface="Arial Cirilica"/>
              </a:rPr>
              <a:t>оболелих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, 35 </a:t>
            </a:r>
            <a:r>
              <a:rPr b="0" lang="sr-CS" sz="2400" spc="-1" strike="noStrike">
                <a:solidFill>
                  <a:srgbClr val="000000"/>
                </a:solidFill>
                <a:latin typeface="Arial Cirilica"/>
              </a:rPr>
              <a:t>умрлих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)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*</a:t>
            </a:r>
            <a:r>
              <a:rPr b="0" lang="sr-CS" sz="2400" spc="-1" strike="noStrike">
                <a:solidFill>
                  <a:srgbClr val="000000"/>
                </a:solidFill>
                <a:latin typeface="Arial Cirilica"/>
              </a:rPr>
              <a:t>)</a:t>
            </a:r>
            <a:r>
              <a:rPr b="0" lang="sr-Latn-C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 Cirilica"/>
              </a:rPr>
              <a:t>болести незаразне етиологије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 Cirilica"/>
              </a:rPr>
              <a:t>могу да се јаве спорадич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ОДСУСТВО БОЛЕ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јава болести на подручју где је раније није било - разлика у односу на спорадично јављање 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9999ff"/>
                </a:solidFill>
                <a:latin typeface="Arial"/>
              </a:rPr>
              <a:t>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суство импортованих резервоа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суство болести усле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одсуства агенса у спољашњој сред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агенси присутни али патогени ефекат није испољ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изостала изложеност осетљив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Временске и просторне одлике масовних поремећаја здрављ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24000" y="2060640"/>
          <a:ext cx="8245440" cy="4102200"/>
        </p:xfrm>
        <a:graphic>
          <a:graphicData uri="http://schemas.openxmlformats.org/drawingml/2006/table">
            <a:tbl>
              <a:tblPr/>
              <a:tblGrid>
                <a:gridCol w="1819080"/>
                <a:gridCol w="1170000"/>
                <a:gridCol w="2376360"/>
                <a:gridCol w="2880000"/>
              </a:tblGrid>
              <a:tr h="11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Временско ограничењ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Н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Просторно ограничењ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ЕПИДЕМИЈ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Ендемиј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Н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Пандемиј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СПОРАДИЧНОС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820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 Cirilica"/>
              </a:rPr>
              <a:t>ДЕФИНИЦИЈА И ЗАДАЦИ ЕПИДЕМИОЛОГ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1530000"/>
            <a:ext cx="87138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утори са запада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(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mi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Gor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Teul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Arial Cirilica"/>
              </a:rPr>
              <a:t>)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оширују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едмет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страживања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 на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стале 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МАСОВНЕ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болести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 патолошка стања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граничавајући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е само на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нфективну етиологију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Предмет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изучавања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у 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СВИ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поремећаји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здравља у популацији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без обзира на то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а ли се јављају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ао масовна појава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ли не и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без обзира на њихову етиологију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560" y="457200"/>
            <a:ext cx="889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 Cirilica"/>
              </a:rPr>
              <a:t>ДЕФИНИЦИЈА И ЗАДАЦИ ЕПИДЕМИОЛОГ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Актуелна дефинициј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Епидемиологија је наук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учесталости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дистрибуциј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азличитих поремећај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здравља у популацији и 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факторим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који условљавај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њихов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јав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 у циљ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њихове превенције и сузбиј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457200"/>
            <a:ext cx="79200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 Cirilica"/>
              </a:rPr>
              <a:t>ДЕФИНИЦИЈА И ЗАДАЦИ ЕПИДЕМИОЛОГ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42472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Cirilica"/>
              </a:rPr>
              <a:t>    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Три подручја истраживањ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дреди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обим и величин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проблем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а 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оче бит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арактеристике оболели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рем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есто оболев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ткрити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узро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(шта је то заједничк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што с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ки погође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ји су узрочни фасктор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дредити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мер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ади спречавањ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 сузбијањ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олес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ерманентно пратити ефикаснос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валуирати резултат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едузетих мер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опунити 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 Cirilica"/>
              </a:rPr>
              <a:t>Основни циљ епидемиологије</a:t>
            </a:r>
            <a:r>
              <a:rPr b="0" lang="sr-CS" sz="4000" spc="-1" strike="noStrike">
                <a:solidFill>
                  <a:srgbClr val="000000"/>
                </a:solidFill>
                <a:latin typeface="Arial Cirilic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920" y="1980720"/>
            <a:ext cx="864216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 Cirilica"/>
              </a:rPr>
              <a:t>Идентификација 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 Cirilica"/>
              </a:rPr>
              <a:t>фактора</a:t>
            </a:r>
            <a:r>
              <a:rPr b="0" lang="sr-CS" sz="3200" spc="-1" strike="noStrike">
                <a:solidFill>
                  <a:srgbClr val="000000"/>
                </a:solidFill>
                <a:latin typeface="Arial Cirilica"/>
              </a:rPr>
              <a:t> (</a:t>
            </a:r>
            <a:r>
              <a:rPr b="1" lang="sr-CS" sz="3200" spc="-1" strike="noStrike">
                <a:solidFill>
                  <a:srgbClr val="000000"/>
                </a:solidFill>
                <a:latin typeface="Arial Cirilica"/>
              </a:rPr>
              <a:t>узрочних</a:t>
            </a:r>
            <a:r>
              <a:rPr b="0" lang="sr-CS" sz="3200" spc="-1" strike="noStrike">
                <a:solidFill>
                  <a:srgbClr val="000000"/>
                </a:solidFill>
                <a:latin typeface="Arial Cirilica"/>
              </a:rPr>
              <a:t> и оних који </a:t>
            </a:r>
            <a:r>
              <a:rPr b="1" lang="sr-CS" sz="3200" spc="-1" strike="noStrike">
                <a:solidFill>
                  <a:srgbClr val="000000"/>
                </a:solidFill>
                <a:latin typeface="Arial Cirilica"/>
              </a:rPr>
              <a:t>повећавају ризик</a:t>
            </a:r>
            <a:r>
              <a:rPr b="0" lang="sr-CS" sz="3200" spc="-1" strike="noStrike">
                <a:solidFill>
                  <a:srgbClr val="000000"/>
                </a:solidFill>
                <a:latin typeface="Arial Cirilica"/>
              </a:rPr>
              <a:t> особе да оболи) повезаних са појавом болести тј.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 Cirilica"/>
              </a:rPr>
              <a:t>идентификација 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 Cirilica"/>
              </a:rPr>
              <a:t>узрока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 Cirilica"/>
              </a:rPr>
              <a:t> поремећаја</a:t>
            </a:r>
            <a:r>
              <a:rPr b="0" lang="sr-CS" sz="3200" spc="-1" strike="noStrike">
                <a:solidFill>
                  <a:srgbClr val="000000"/>
                </a:solidFill>
                <a:latin typeface="Arial Cirilica"/>
              </a:rPr>
              <a:t> здравља (утврђивање узрочне повезаности између чинилаца и обољењ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 Cirilica"/>
              </a:rPr>
              <a:t>Стварање услова за превенирање обољења тј.изналажење и евалуација метода спречавања и сузбијања бол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86043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 Cirilica"/>
              </a:rPr>
              <a:t>Основ за планирање здравствене заштите и креирање здравствене политике ?</a:t>
            </a:r>
            <a:r>
              <a:rPr b="0" lang="sr-C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280" y="2491920"/>
            <a:ext cx="8604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 Cirilica"/>
              </a:rPr>
              <a:t>Анализ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 Cirilica"/>
              </a:rPr>
              <a:t>учесталости и дистрибуције</a:t>
            </a:r>
            <a:r>
              <a:rPr b="0" lang="sr-CS" sz="2800" spc="-1" strike="noStrike">
                <a:solidFill>
                  <a:srgbClr val="000000"/>
                </a:solidFill>
                <a:latin typeface="Arial Cirilica"/>
              </a:rPr>
              <a:t> поремећаја здравља у популациј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 Cirilica"/>
              </a:rPr>
              <a:t>Испитивање </a:t>
            </a:r>
            <a:r>
              <a:rPr b="1" lang="sr-CS" sz="2800" spc="-1" strike="noStrike">
                <a:solidFill>
                  <a:srgbClr val="000000"/>
                </a:solidFill>
                <a:latin typeface="Arial Cirilica"/>
              </a:rPr>
              <a:t>природног тока</a:t>
            </a:r>
            <a:r>
              <a:rPr b="0" lang="sr-CS" sz="2800" spc="-1" strike="noStrike">
                <a:solidFill>
                  <a:srgbClr val="000000"/>
                </a:solidFill>
                <a:latin typeface="Arial Cirilica"/>
              </a:rPr>
              <a:t> боле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 Cirilica"/>
              </a:rPr>
              <a:t>Евалуациј</a:t>
            </a:r>
            <a:r>
              <a:rPr b="1" lang="en-US" sz="2800" spc="-1" strike="noStrike">
                <a:solidFill>
                  <a:srgbClr val="000000"/>
                </a:solidFill>
                <a:latin typeface="Arial Cirilica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Arial Cirilica"/>
              </a:rPr>
              <a:t> постојећих и нових </a:t>
            </a:r>
            <a:r>
              <a:rPr b="1" lang="sr-CS" sz="2800" spc="-1" strike="noStrike">
                <a:solidFill>
                  <a:srgbClr val="000000"/>
                </a:solidFill>
                <a:latin typeface="Arial Cirilica"/>
              </a:rPr>
              <a:t>превентивних</a:t>
            </a:r>
            <a:r>
              <a:rPr b="0" lang="sr-CS" sz="2800" spc="-1" strike="noStrike">
                <a:solidFill>
                  <a:srgbClr val="000000"/>
                </a:solidFill>
                <a:latin typeface="Arial Cirilica"/>
              </a:rPr>
              <a:t> и </a:t>
            </a:r>
            <a:r>
              <a:rPr b="1" lang="sr-CS" sz="2800" spc="-1" strike="noStrike">
                <a:solidFill>
                  <a:srgbClr val="000000"/>
                </a:solidFill>
                <a:latin typeface="Arial Cirilica"/>
              </a:rPr>
              <a:t>терапијских</a:t>
            </a:r>
            <a:r>
              <a:rPr b="0" lang="sr-CS" sz="2800" spc="-1" strike="noStrike">
                <a:solidFill>
                  <a:srgbClr val="000000"/>
                </a:solidFill>
                <a:latin typeface="Arial Cirilica"/>
              </a:rPr>
              <a:t> поступа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 Cirilica"/>
              </a:rPr>
              <a:t>Евалуациј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 Cirilica"/>
              </a:rPr>
              <a:t>ефикасности здравствене служб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1280" y="90792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 Cirilica"/>
              </a:rPr>
              <a:t>ОСНОВНА СТРАТЕГИЈА ЕПИДЕМИОЛОГИЈЕ РАДИ ОСТВАРИВАЊА ЦИЉЕВА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2707920"/>
            <a:ext cx="822960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 Cirilica"/>
              </a:rPr>
              <a:t>Уочавање</a:t>
            </a:r>
            <a:r>
              <a:rPr b="1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 Cirilica"/>
              </a:rPr>
              <a:t>разлика и сличности</a:t>
            </a:r>
            <a:r>
              <a:rPr b="1" lang="sr-Latn-C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 Cirilica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Arial Cirilica"/>
              </a:rPr>
              <a:t>карактеристика поремећаја здравља</a:t>
            </a:r>
            <a:r>
              <a:rPr b="1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 Cirilica"/>
              </a:rPr>
              <a:t>у</a:t>
            </a:r>
            <a:r>
              <a:rPr b="1" lang="sr-Latn-C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 Cirilica"/>
              </a:rPr>
              <a:t>посматраним популационим група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1:00:47Z</dcterms:created>
  <dc:creator>User</dc:creator>
  <dc:description/>
  <dc:language>en-US</dc:language>
  <cp:lastModifiedBy> </cp:lastModifiedBy>
  <dcterms:modified xsi:type="dcterms:W3CDTF">2017-01-09T12:13:45Z</dcterms:modified>
  <cp:revision>473</cp:revision>
  <dc:subject/>
  <dc:title>Slide 1</dc:title>
</cp:coreProperties>
</file>