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89F-3024-4978-8A8B-37415F9D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254E-E409-4C7A-B61A-913E0A35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4401-9C35-4773-8C90-33C53D25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ED05-530B-4669-B2C0-9AE8DD32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CC60-B8A0-40B3-A24C-D723C1F0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8661-82D0-413A-915F-58A0946F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EF85-D718-4E96-80B2-9ACC5806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12AC-04D5-4609-902D-5BBF1350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C89E-6B4A-4348-8B5A-E699CF82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CC80-5415-4039-8949-7C636D93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9C45-2B54-4D33-BDED-1B13A1F8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7AF2-1D3E-47C9-815F-BB71BF6F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25D5-AA7B-4C06-8A11-910D88CA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9624-061D-4786-B433-1EF33D10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D2C1-AF90-4516-BEB8-5A92A091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48B3-A83F-46CC-83E4-BB27771B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08F6-4460-49FF-ACBD-8AA7EC51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C6D-123D-4A68-94B9-56D046ED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A83-4941-454F-A852-ACC55FE5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B977-472A-455D-A041-D867389E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002E-617A-4E9A-B057-6E4EC081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433-359A-47DB-951D-93B5F611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BD76-7616-4B40-B87B-EF6137E2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B10-1B35-4CEF-9986-93D17021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68A2-884F-4ADC-B78F-1FDC1679B1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E6A4-D88D-414B-8FCA-EE4D9CE1E6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907560"/>
            <a:ext cx="670392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330066"/>
                </a:solidFill>
                <a:latin typeface="Arial Cirilica"/>
              </a:rPr>
              <a:t>Извори података о оболевању и умирању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7543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 Cirilica"/>
              </a:rPr>
              <a:t>Категорије извора података о оболевању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1.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Пријава боле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2.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Регистр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      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-оболел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      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-клицонош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      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-оста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3.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Подаци амбулантно поликлиничких   устано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4.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Подаци о хоспитализациј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5.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Остали изво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7677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ријава болести</a:t>
            </a: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 - </a:t>
            </a: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Циљ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ална контрола епидемиолошке ситуације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очавање евентуалног пораст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роја оболели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дузимање противепидемијских м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Евалуација ефикасности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мењених мера сузбиј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ријава болест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 територији РС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авезно се пријављује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7</a:t>
            </a:r>
            <a:r>
              <a:rPr b="0" lang="sr-Latn-CS" sz="3000" spc="-1" strike="noStrike">
                <a:solidFill>
                  <a:srgbClr val="000000"/>
                </a:solidFill>
                <a:latin typeface="Arial Cirilica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олести; са неким изузецим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ехинококоз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лепра и сл.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еч је о акутним поремећајима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ријава болести</a:t>
            </a: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2150640"/>
            <a:ext cx="856908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Arial Cirilica"/>
              </a:rPr>
              <a:t>Проценат зависи од</a:t>
            </a:r>
            <a:r>
              <a:rPr b="1" lang="en-US" sz="1900" spc="-1" strike="noStrike">
                <a:solidFill>
                  <a:srgbClr val="000000"/>
                </a:solidFill>
                <a:latin typeface="Arial Cirilic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37800" indent="-27900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Развијеност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доступност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и коришћења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 Cirilica"/>
              </a:rPr>
              <a:t>здравствене служб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37800" indent="-27900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 Cirilica"/>
              </a:rPr>
              <a:t>Тежине клиничке слик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када је у питању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 Cirilica"/>
              </a:rPr>
              <a:t>лако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 оболењ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болесник се и НЕ обраћа лекар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37800" indent="-27900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Учесталост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 Cirilica"/>
              </a:rPr>
              <a:t>атипичних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облик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болест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и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 Cirilica"/>
              </a:rPr>
              <a:t>инапарентних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инфек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37800" indent="-27900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 Cirilica"/>
              </a:rPr>
              <a:t>Диференцијално-дијагностичких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проблем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нпр.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антропозооноз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често промичу 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под другом дијагнозом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37800" indent="-27900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Ажурности пријављивањ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итд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ријава болести</a:t>
            </a: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2006640"/>
            <a:ext cx="822960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По Међународном здравственом правилнику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све земље</a:t>
            </a:r>
            <a:r>
              <a:rPr b="1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чланице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ЗО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дужне су да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најбржим путем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телексом или факсом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пријаве колеру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кугу и жуту грозницу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(СУМЊА И ПОТВРДА ПОСТИЈАЊ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Под надзором СЗО</a:t>
            </a:r>
            <a:r>
              <a:rPr b="1" lang="sr-Latn-CS" sz="2400" spc="-1" strike="noStrike">
                <a:solidFill>
                  <a:srgbClr val="000000"/>
                </a:solidFill>
                <a:latin typeface="Arial Cirilic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пегавац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повратна грозница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паралитички полиомијелитис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маларија</a:t>
            </a:r>
            <a:r>
              <a:rPr b="1" lang="sr-Latn-C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грип</a:t>
            </a:r>
            <a:r>
              <a:rPr b="1" lang="sr-Latn-CS" sz="2400" spc="-1" strike="noStrike">
                <a:solidFill>
                  <a:srgbClr val="000000"/>
                </a:solidFill>
                <a:latin typeface="Arial Cirilica"/>
              </a:rPr>
              <a:t> ...</a:t>
            </a:r>
            <a:r>
              <a:rPr b="0" lang="en-US" sz="21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543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2. Регистри?</a:t>
            </a: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cccc00"/>
                </a:solidFill>
                <a:latin typeface="Times Cirilica"/>
                <a:ea typeface="Arial"/>
              </a:rPr>
              <a:t>►</a:t>
            </a:r>
            <a:r>
              <a:rPr b="0" lang="en-US" sz="3000" spc="-1" strike="noStrike">
                <a:solidFill>
                  <a:srgbClr val="000000"/>
                </a:solidFill>
                <a:latin typeface="Times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главном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ухватају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једине хроничне болести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/или стањ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cccc00"/>
                </a:solidFill>
                <a:latin typeface="Times Cirilica"/>
                <a:ea typeface="Arial"/>
              </a:rPr>
              <a:t>►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дстављају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тпунији начин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аћењ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ретања поремећаја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Регистр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могућавају да се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сваком тренутку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сполаже не само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подацима о инциденциј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ћ и о преваленциј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ајању и исходу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ређеног патолошког с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Прецизно сагледа учест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ост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распрострањеност, ток и прогн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Регистри оболели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На територији Србије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воде се регистри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за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11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болести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односно група болести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психоз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реуматску грозниц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7e9ce8"/>
                </a:solidFill>
                <a:latin typeface="Arial Cirilica"/>
              </a:rPr>
              <a:t>малигна обољењ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7e9ce8"/>
                </a:solidFill>
                <a:latin typeface="Arial Cirilica"/>
              </a:rPr>
              <a:t>шећерну болес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ендемску нефропатиј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прогресивне мишићне дистрофиј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хемофилиј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хроничну инсуфицујенцију бубрег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7e9ce8"/>
                </a:solidFill>
                <a:latin typeface="Arial Cirilica"/>
              </a:rPr>
              <a:t>коронарну болест срц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опструктивну болест плућ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наркоманиј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Регистри клицонош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артотека за лица која су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еболела поједине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олести и/или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злучују њихове проузроковаче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(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бољења која могу да доведу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о хроничног клицоноштва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►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цревне болести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–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алмонелозе и шигело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►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ођење евиденције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осилаца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HBs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нтигена и антите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►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лучењ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yphi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aratyphi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 (позивање на контролне преглед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Остали регистр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Регистри различитих</a:t>
            </a:r>
            <a:r>
              <a:rPr b="1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врста инвалидности</a:t>
            </a:r>
            <a:r>
              <a:rPr b="1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значај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 Cirilica"/>
              </a:rPr>
              <a:t>са социјалне и административне тачке гледиш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 Cirilica"/>
              </a:rPr>
              <a:t>процену епидемиолошке ситуације</a:t>
            </a:r>
            <a:r>
              <a:rPr b="0" lang="en-US" sz="23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 Cirilica"/>
              </a:rPr>
              <a:t>предузимање ме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 Cirilica"/>
              </a:rPr>
              <a:t>Извори података о оболевању и умирању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330066"/>
                </a:solidFill>
                <a:latin typeface="Arial"/>
                <a:ea typeface="Arial"/>
              </a:rPr>
              <a:t>Услови за мерење </a:t>
            </a:r>
            <a:r>
              <a:rPr b="1" lang="sr-CS" sz="3000" spc="-1" strike="noStrike">
                <a:solidFill>
                  <a:srgbClr val="330066"/>
                </a:solidFill>
                <a:latin typeface="Arial"/>
                <a:ea typeface="Arial"/>
              </a:rPr>
              <a:t>учесталости</a:t>
            </a:r>
            <a:r>
              <a:rPr b="0" lang="sr-CS" sz="3000" spc="-1" strike="noStrike">
                <a:solidFill>
                  <a:srgbClr val="330066"/>
                </a:solidFill>
                <a:latin typeface="Arial"/>
                <a:ea typeface="Arial"/>
              </a:rPr>
              <a:t> болести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Располагање подацима о ПОПУЛАЦИЈИ (СТАНОВНИШТВУ)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Располагање подацима о ОБОЛЕЛИМ, односно УМРЛИМ особ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3</a:t>
            </a:r>
            <a:r>
              <a:rPr b="1" lang="en-US" sz="3600" spc="-1" strike="noStrike">
                <a:solidFill>
                  <a:srgbClr val="cccc00"/>
                </a:solidFill>
                <a:latin typeface="Arial Cirilica"/>
              </a:rPr>
              <a:t>.</a:t>
            </a: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 Подаци амбулантно-поликлиничких установ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ољења и стањ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тврђена код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Ехоспитализованих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мбуланте 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испанзери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омови здрављ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 друге здравствене установе</a:t>
            </a: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ебно се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рађују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 објављују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одговарајућим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убликација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одаци амбулантно-поликлиничких установ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Омогућавају сагледавање </a:t>
            </a:r>
            <a:r>
              <a:rPr b="0" lang="sr-CS" sz="3000" spc="-1" strike="noStrike" u="sng">
                <a:solidFill>
                  <a:srgbClr val="000000"/>
                </a:solidFill>
                <a:uFillTx/>
                <a:latin typeface="Arial Cirilica"/>
              </a:rPr>
              <a:t>учесталости</a:t>
            </a: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 и релативне заступљености појединих патолошких стања дијагностикованих у служби опште медицине и у специјалистичким служба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Здравствени радници самостално анализирају податке везане за популацију о чијем се здрављу старај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748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4.</a:t>
            </a:r>
            <a:r>
              <a:rPr b="1" lang="sr-CS" sz="3200" spc="-1" strike="noStrike">
                <a:solidFill>
                  <a:srgbClr val="cccc00"/>
                </a:solidFill>
                <a:latin typeface="Arial Cirilica"/>
              </a:rPr>
              <a:t> </a:t>
            </a: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одаци о хоспитализацији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556000"/>
            <a:ext cx="8362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Arial Cirilica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Значајан извор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орбидитетних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података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 Cirilica"/>
              </a:rPr>
              <a:t>(прецизније сазнање о учесталости и структури појединих поремећаја здравља) због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Arial Cirilica"/>
              </a:rPr>
              <a:t>квалитета дијагнос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50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ccc00"/>
                </a:solidFill>
                <a:latin typeface="Arial Cirilica"/>
              </a:rPr>
              <a:t>Подаци о хоспитализацији</a:t>
            </a:r>
            <a:r>
              <a:rPr b="1" lang="en-US" sz="3500" spc="-1" strike="noStrike">
                <a:solidFill>
                  <a:srgbClr val="330066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cccc00"/>
                </a:solidFill>
                <a:latin typeface="Arial Cirilica"/>
              </a:rPr>
              <a:t>(о особама леченим у стационарној установи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719000"/>
            <a:ext cx="896472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Ограничења при интерпретацији података</a:t>
            </a:r>
            <a:r>
              <a:rPr b="1" lang="sr-CS" sz="2100" spc="-1" strike="noStrike">
                <a:solidFill>
                  <a:srgbClr val="000000"/>
                </a:solidFill>
                <a:latin typeface="Arial Cirilica"/>
              </a:rPr>
              <a:t>, погрешни закључци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ка обољењ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лече се болничк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век или скоро увек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 нека никад или скоро ника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О карактеристикама</a:t>
            </a:r>
            <a:r>
              <a:rPr b="1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дређене болест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честалости појединих манифестација</a:t>
            </a:r>
            <a:r>
              <a:rPr b="1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ли ризику неповољног исход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ди се само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на основу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хоспиталн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статистик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р се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игноришу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блаж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облици за које постој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ања вероватноћ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а ће захтевати болнички третман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ансе да се буде хоспитализован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словљене су развијеношћу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дравствене служб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 стањем болничких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апацитета а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 оквиру исте териториј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јаднаке су з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азлишите социјалне слојев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3200" spc="-1" strike="noStrike">
                <a:solidFill>
                  <a:srgbClr val="cccc00"/>
                </a:solidFill>
                <a:latin typeface="Arial Cirilica"/>
              </a:rPr>
              <a:t>Подаци о хоспитализацији</a:t>
            </a:r>
            <a:r>
              <a:rPr b="1" lang="en-US" sz="3500" spc="-1" strike="noStrike">
                <a:solidFill>
                  <a:srgbClr val="330066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cccc00"/>
                </a:solidFill>
                <a:latin typeface="Arial Cirilica"/>
              </a:rPr>
              <a:t>(о особама леченим у стационарној установи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36664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Θ</a:t>
            </a:r>
            <a:r>
              <a:rPr b="0" lang="sr-Latn-CS" sz="1600" spc="-1" strike="noStrike">
                <a:solidFill>
                  <a:srgbClr val="cccc00"/>
                </a:solidFill>
                <a:latin typeface="Arial Cirilica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граничења при интерпретацији података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, погрешни закључц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sr-Latn-CS" sz="2400" spc="-1" strike="noStrike">
                <a:solidFill>
                  <a:srgbClr val="cccc00"/>
                </a:solidFill>
                <a:latin typeface="Arial Cirilic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шко израчунат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рбидитет на основ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атака о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оспитализациј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j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j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именитењ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говарајућ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пулација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оро немогуће установ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cccc00"/>
                </a:solidFill>
                <a:latin typeface="Arial Cirilica"/>
              </a:rPr>
              <a:t>5.Остали извори</a:t>
            </a:r>
            <a:r>
              <a:rPr b="1" lang="en-US" sz="3900" spc="-1" strike="noStrike">
                <a:solidFill>
                  <a:srgbClr val="330066"/>
                </a:solidFill>
                <a:latin typeface="Arial Cirilica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2446200"/>
            <a:ext cx="82296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Заводи за здравствено</a:t>
            </a:r>
            <a:r>
              <a:rPr b="1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и пензијско</a:t>
            </a:r>
            <a:r>
              <a:rPr b="1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осигурањ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Систематски прегледи</a:t>
            </a:r>
            <a:r>
              <a:rPr b="1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појединих категорија попула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900" spc="-1" strike="noStrike">
                <a:solidFill>
                  <a:srgbClr val="cccc00"/>
                </a:solidFill>
                <a:latin typeface="Arial Cirilica"/>
              </a:rPr>
              <a:t> </a:t>
            </a:r>
            <a:r>
              <a:rPr b="1" lang="sr-CS" sz="3900" spc="-1" strike="noStrike">
                <a:solidFill>
                  <a:srgbClr val="cccc00"/>
                </a:solidFill>
                <a:latin typeface="Arial Cirilica"/>
              </a:rPr>
              <a:t>Остали извори</a:t>
            </a:r>
            <a:r>
              <a:rPr b="1" lang="en-US" sz="3900" spc="-1" strike="noStrike">
                <a:solidFill>
                  <a:srgbClr val="330066"/>
                </a:solidFill>
                <a:latin typeface="Arial Cirilica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Анкетирање</a:t>
            </a:r>
            <a:r>
              <a:rPr b="1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епрезентативног узорк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пула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Циљна теренска испитив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191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 Cirilica"/>
              </a:rPr>
              <a:t>ПОДАЦИ</a:t>
            </a:r>
            <a:r>
              <a:rPr b="1" lang="en-US" sz="3600" spc="-1" strike="noStrike">
                <a:solidFill>
                  <a:srgbClr val="330066"/>
                </a:solidFill>
                <a:latin typeface="Arial Cirilica"/>
              </a:rPr>
              <a:t> </a:t>
            </a:r>
            <a:r>
              <a:rPr b="1" lang="sr-CS" sz="3600" spc="-1" strike="noStrike">
                <a:solidFill>
                  <a:srgbClr val="330066"/>
                </a:solidFill>
                <a:latin typeface="Arial Cirilica"/>
              </a:rPr>
              <a:t>О ПОПУЛАЦИЈИ </a:t>
            </a:r>
            <a:r>
              <a:rPr b="1" lang="sr-CS" sz="4400" spc="-1" strike="noStrike">
                <a:solidFill>
                  <a:srgbClr val="330066"/>
                </a:solidFill>
                <a:latin typeface="Arial Cirilica"/>
              </a:rPr>
              <a:t>?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3259080"/>
            <a:ext cx="712980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ccc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cccc00"/>
                </a:solidFill>
                <a:latin typeface="Arial"/>
              </a:rPr>
              <a:t>ПОПИС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Arial"/>
              </a:rPr>
              <a:t>2. </a:t>
            </a:r>
            <a:r>
              <a:rPr b="1" lang="sr-CS" sz="3200" spc="-1" strike="noStrike">
                <a:solidFill>
                  <a:srgbClr val="cccc00"/>
                </a:solidFill>
                <a:latin typeface="Arial"/>
              </a:rPr>
              <a:t>Други извори података о попула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30066"/>
                </a:solidFill>
                <a:latin typeface="Arial Cirilica"/>
              </a:rPr>
              <a:t>ПОДАЦИ</a:t>
            </a:r>
            <a:r>
              <a:rPr b="1" lang="en-US" sz="3200" spc="-1" strike="noStrike">
                <a:solidFill>
                  <a:srgbClr val="330066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330066"/>
                </a:solidFill>
                <a:latin typeface="Arial Cirilica"/>
              </a:rPr>
              <a:t>(ИЗВОРИ ПОДАТАКА)</a:t>
            </a:r>
            <a:r>
              <a:rPr b="1" lang="en-US" sz="3200" spc="-1" strike="noStrike">
                <a:solidFill>
                  <a:srgbClr val="330066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330066"/>
                </a:solidFill>
                <a:latin typeface="Arial Cirilica"/>
              </a:rPr>
              <a:t>О ПОПУЛАЦИЈИ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- </a:t>
            </a:r>
            <a:r>
              <a:rPr b="1" lang="sr-CS" sz="4200" spc="-1" strike="noStrike">
                <a:solidFill>
                  <a:srgbClr val="cccc00"/>
                </a:solidFill>
                <a:latin typeface="Arial"/>
              </a:rPr>
              <a:t>ПОПИСИ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2295360"/>
            <a:ext cx="8642160" cy="27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ff0000"/>
                </a:solidFill>
                <a:latin typeface="Arial Cirilica"/>
              </a:rPr>
              <a:t>+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</a:rPr>
              <a:t> Пописи становништва</a:t>
            </a:r>
            <a:r>
              <a:rPr b="1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Latn-CS" sz="2500" spc="-1" strike="noStrike">
                <a:solidFill>
                  <a:srgbClr val="000000"/>
                </a:solidFill>
                <a:latin typeface="Arial Cirilica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веобухватан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уздан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ачан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звор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датака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 популацији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зложеној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изику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болевања</a:t>
            </a:r>
            <a:r>
              <a:rPr b="0" lang="sr-Latn-C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(умирања)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00"/>
                </a:solidFill>
                <a:latin typeface="Arial Cirilica"/>
                <a:ea typeface="Arial"/>
              </a:rPr>
              <a:t>       →</a:t>
            </a:r>
            <a:r>
              <a:rPr b="0" lang="sr-Latn-CS" sz="25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целокупној или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00"/>
                </a:solidFill>
                <a:latin typeface="Arial Cirilica"/>
                <a:ea typeface="Arial"/>
              </a:rPr>
              <a:t>       →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јединим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њеним сегментим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700" spc="-1" strike="noStrike">
                <a:solidFill>
                  <a:srgbClr val="cccc00"/>
                </a:solidFill>
                <a:latin typeface="Arial"/>
              </a:rPr>
              <a:t>Други извори података о популацији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□</a:t>
            </a:r>
            <a:r>
              <a:rPr b="0" lang="sr-Latn-C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Подаци месне заједнице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□</a:t>
            </a:r>
            <a:r>
              <a:rPr b="0" lang="sr-Latn-C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Бирачки спискови</a:t>
            </a:r>
            <a:r>
              <a:rPr b="0" lang="sr-Latn-CS" sz="30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Latn-CS" sz="3000" spc="-1" strike="noStrike">
                <a:solidFill>
                  <a:srgbClr val="330066"/>
                </a:solidFill>
                <a:latin typeface="Arial Cirilica"/>
                <a:ea typeface="Arial"/>
              </a:rPr>
              <a:t>→</a:t>
            </a:r>
            <a:r>
              <a:rPr b="0" lang="sr-Latn-CS" sz="30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спитивања везана 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амо за 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пулацију одраслих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□</a:t>
            </a:r>
            <a:r>
              <a:rPr b="0" lang="sr-Latn-C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Списак пореских обвезника</a:t>
            </a:r>
            <a:r>
              <a:rPr b="0" lang="sr-Latn-CS" sz="30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Latn-CS" sz="3000" spc="-1" strike="noStrike">
                <a:solidFill>
                  <a:srgbClr val="330066"/>
                </a:solidFill>
                <a:latin typeface="Arial Cirilica"/>
                <a:ea typeface="Arial"/>
              </a:rPr>
              <a:t>→</a:t>
            </a:r>
            <a:r>
              <a:rPr b="0" lang="sr-Latn-CS" sz="30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јединица 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матрања домаћинств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□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 терену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ad hoc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прикупљени подац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 Cirilica"/>
              </a:rPr>
              <a:t>Категорије извора података о умирању и рађању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1</a:t>
            </a:r>
            <a:r>
              <a:rPr b="1" lang="en-US" sz="3600" spc="-1" strike="noStrike">
                <a:solidFill>
                  <a:srgbClr val="cccc00"/>
                </a:solidFill>
                <a:latin typeface="Arial Cirilica"/>
              </a:rPr>
              <a:t>. </a:t>
            </a: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Извештаји о узроку смр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Arial Cirilica"/>
              </a:rPr>
              <a:t>2. </a:t>
            </a: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одаци матичне службе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cc00"/>
                </a:solidFill>
                <a:uFillTx/>
                <a:latin typeface="Arial Cirilica"/>
              </a:rPr>
              <a:t>1.</a:t>
            </a:r>
            <a:r>
              <a:rPr b="1" lang="sr-CS" sz="3600" spc="-1" strike="noStrike" u="sng">
                <a:solidFill>
                  <a:srgbClr val="cccc00"/>
                </a:solidFill>
                <a:uFillTx/>
                <a:latin typeface="Arial Cirilica"/>
              </a:rPr>
              <a:t>Извештаји о узроку смрти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921440" cy="32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Законска обавеза</a:t>
            </a:r>
            <a:r>
              <a:rPr b="0" lang="en-US" sz="29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да лекар за умрло лице</a:t>
            </a:r>
            <a:r>
              <a:rPr b="0" lang="en-US" sz="29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попуни</a:t>
            </a:r>
            <a:r>
              <a:rPr b="0" lang="en-US" sz="29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извештај</a:t>
            </a:r>
            <a:r>
              <a:rPr b="0" lang="en-US" sz="29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о узроку смрти</a:t>
            </a:r>
            <a:r>
              <a:rPr b="0" lang="sr-Latn-CS" sz="29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Latn-CS" sz="2900" spc="-1" strike="noStrike">
                <a:solidFill>
                  <a:srgbClr val="000000"/>
                </a:solidFill>
                <a:latin typeface="Arial Cirilica"/>
                <a:ea typeface="Arial"/>
              </a:rPr>
              <a:t>→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  <a:ea typeface="Arial"/>
              </a:rPr>
              <a:t>надлежни матичари</a:t>
            </a:r>
            <a:r>
              <a:rPr b="0" lang="sr-Latn-CS" sz="2900" spc="-1" strike="noStrike">
                <a:solidFill>
                  <a:srgbClr val="000000"/>
                </a:solidFill>
                <a:latin typeface="Arial Cirilica"/>
                <a:ea typeface="Arial"/>
              </a:rPr>
              <a:t> →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регион</a:t>
            </a:r>
            <a:r>
              <a:rPr b="0" lang="sr-Latn-CS" sz="29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Latn-CS" sz="2900" spc="-1" strike="noStrike">
                <a:solidFill>
                  <a:srgbClr val="000000"/>
                </a:solidFill>
                <a:latin typeface="Arial Cirilica"/>
                <a:ea typeface="Arial"/>
              </a:rPr>
              <a:t>→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Републички завод за статистику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700" spc="-1" strike="noStrike">
                <a:solidFill>
                  <a:srgbClr val="ff0000"/>
                </a:solidFill>
                <a:latin typeface="Arial Cirilica"/>
              </a:rPr>
              <a:t>+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 Погодност ослањања на морталитетну статистику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ccc00"/>
                </a:solidFill>
                <a:latin typeface="Arial Cirilica"/>
              </a:rPr>
              <a:t>2.</a:t>
            </a:r>
            <a:r>
              <a:rPr b="1" lang="sr-CS" sz="3200" spc="-1" strike="noStrike">
                <a:solidFill>
                  <a:srgbClr val="cccc00"/>
                </a:solidFill>
                <a:latin typeface="Arial Cirilica"/>
              </a:rPr>
              <a:t> </a:t>
            </a:r>
            <a:r>
              <a:rPr b="1" lang="sr-CS" sz="3600" spc="-1" strike="noStrike" u="sng">
                <a:solidFill>
                  <a:srgbClr val="cccc00"/>
                </a:solidFill>
                <a:uFillTx/>
                <a:latin typeface="Arial Cirilica"/>
              </a:rPr>
              <a:t>Подаци матичне службе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 Cirilica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годност ослањања на податке матичне служ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а процену промене броја станов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зматрање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пидемиолошке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туације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 ужем подруч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cccc00"/>
                </a:solidFill>
                <a:uFillTx/>
                <a:latin typeface="Arial Cirilica"/>
              </a:rPr>
              <a:t>Подаци матичне службе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 Cirilica"/>
                <a:ea typeface="Arial"/>
              </a:rPr>
              <a:t>Опрезност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(ограничења)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 Cirilica"/>
                <a:ea typeface="Arial"/>
              </a:rPr>
              <a:t> при закључивању на основу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датака матичне службе,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погрешни закључци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Θ</a:t>
            </a:r>
            <a:r>
              <a:rPr b="0" lang="sr-CS" sz="2400" spc="-1" strike="noStrike">
                <a:solidFill>
                  <a:srgbClr val="330066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евиденцији се вод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В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на териториј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длежне матичн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ужб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МРЛ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лиц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ез обзир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место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њиховог сталног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равк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2400" spc="-1" strike="noStrike">
                <a:solidFill>
                  <a:srgbClr val="cccc00"/>
                </a:solidFill>
                <a:latin typeface="Arial Cirilica"/>
                <a:ea typeface="Arial"/>
              </a:rPr>
              <a:t>→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рне тачке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гистралних путев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ста са великим 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ојем несрећа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, привидно високе стопе морталите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итељ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мрл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ao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рођен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ва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одручј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oje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пада под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длежност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говарајућ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тичне служб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евидентирај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њигам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Θ</a:t>
            </a:r>
            <a:r>
              <a:rPr b="0" lang="sr-Latn-CS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 </a:t>
            </a:r>
            <a:r>
              <a:rPr b="0" lang="sr-CS" sz="2400" spc="-1" strike="noStrike">
                <a:solidFill>
                  <a:srgbClr val="330066"/>
                </a:solidFill>
                <a:latin typeface="Arial"/>
                <a:ea typeface="Arial"/>
              </a:rPr>
              <a:t>П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одаци су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СКУДНИ</a:t>
            </a:r>
            <a:r>
              <a:rPr b="0" lang="sr-CS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 је реч о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мирањ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суство дијагноз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могућуј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чунавањ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само општих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и не и по узрок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ецифичних стопа мортал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00:34Z</dcterms:created>
  <dc:creator>User</dc:creator>
  <dc:description/>
  <dc:language>en-US</dc:language>
  <cp:lastModifiedBy> </cp:lastModifiedBy>
  <dcterms:modified xsi:type="dcterms:W3CDTF">2016-12-30T09:15:19Z</dcterms:modified>
  <cp:revision>214</cp:revision>
  <dc:subject/>
  <dc:title>Slide 1</dc:title>
</cp:coreProperties>
</file>